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32C-0DA8-4C79-BE8D-3A2B228F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85D-311B-4CC2-AA86-0C5FF5E1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AF6-FECA-4D81-847C-0F424333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6FE-FC40-4C4E-91EF-AFFCF902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8076-DA01-48E5-901D-F4091739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91D7-631B-4729-8256-4DC863F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D78-9F58-493F-A385-10BCF08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4791-2916-4A4A-A297-49103BC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DC8C-DE96-4EED-9DE4-C384F187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771-36BA-4FC3-9E56-4DF03F0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8184-39EA-4CAF-AA7D-C22852C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183-B29C-45A1-8820-1586B428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7079-AFE2-4531-A1DD-D2C624C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F0D1-229D-42A3-90AE-150EAD8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29C-F08D-4B45-8C17-6811AA6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3A23-EF46-4CF8-B969-289F4DA6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C7CC-689B-4290-B2F8-D3A7465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72E-634E-41DD-9445-FE8C75F3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C34-081E-4186-B4DE-417C182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230-17EC-4133-AC74-8305087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109-482C-4A59-90AE-3ABDD1D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148-FC70-42AE-80BE-C3679A5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C4E-E111-4CFF-AB9C-C2F1FA7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06E-F462-4177-ABF3-E95F858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620-6601-4D1C-B115-8C86D2590E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C20-D3C8-4C22-924A-D611D668FA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5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rican Americans in the Nation: 1783-18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ncipation- The freeing of enslaved African Americ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atlantic immigration- The immigration of white laborers from Europe to Ame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s of Confederation- The constitution from which the Congress derived its authority between 1781 and 17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west Ordinance- Ordinance that provided for the formation of new states in the Old Northwest and banning of slavery in that reg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Terms for Section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litionist- An advocate of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slavery societies- Societies formed under Quaker leadership to promote the abolition of slav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nsated emancipation- Emancipation accompanied by the monetary compensation of former sla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umission- The legal freeing of a sla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ry Begins to Un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and Chesapeake favored emancipation after the War for Independence en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ransatlantic immigration brings a lot of white laborers to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laborers work very cheap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makes African slaves not as essential as bef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tates such as Vermont, Massachusetts, and New Hampshire abolished slavery during the 1700s and 1780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men in the Massachusetts gain the right to vote before 179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and John Cuffe (178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man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and Rhode Island adopted gradual abolition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onnecticut the state proposed that all children born to enslaved mother after March 1, 1784 would become free after their twenty-five birth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Rhode Island the state proposed that all children born to enslaved mother after March 1, 1784 would become free at bir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-Atlantic States (PA, NJ, 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states had more investment in slaves than the New England st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reluctant to abolish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nsylvania voted that children of enslaved mothers would become free at twenty-eight in 17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99, New York agreed male slaves born after July 4 of that year would become free at twenty-e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New Jersey agreed that males slaves born after July 4, 1804 would become free at age twenty-f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emales the age was twenty-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of 17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s of Confederation was were Congress drew its author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mas Jeff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ern region be divided into separate terr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avery banned after 1800 from the Appalachians to the Mississippi River and from Spanish Flo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787 Congress adopted the Northwest Ordin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ovided orderly sale of land , support for public education, territorial government, and eventual formation of new sta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1720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like Jefferson proposal slavery was banned immediately in the are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of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slavery Societies in the North and the Upper S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hony Benezet organized the first antislavery society in 177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r became known as the Pennsylvania Society for Promoting the Abolition of Slavery (178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jamin Franklin became its presi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ntislavery societies aimed at gradual compensated emancipation for states such as Delaware, Maryland, and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te abolitionists were reluctant to challenge the property right of slaves own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they feared that freed elderly slaves would need long training before they could be fr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Freedo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mission and Self-Purch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umission laws were liberalized in most southern states after the Rev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could free individual slaves by deed or wi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 masters would have to go to court to prove that a slaves desired to be fre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slaves bought their freedom through self-purchase contr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rs enjoyed this because they were receiving in return for their lost of labor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lf purchase could leave slaves in “financial slavery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ction 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ces for Slave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ergence of A Free Black Class in the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free blacks in the Upper South blossomed from 1790 to 18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went from 8,043 free blacks to 39,730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ginia went from 12,766 free blacks to 36,889 free bl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 most of the Upper South black population remained enslav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10.6% of blacks were free in the Upper South in 182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2:14:40Z</dcterms:created>
  <dc:creator>Henry Dugan</dc:creator>
  <dc:description/>
  <dc:language>en-US</dc:language>
  <cp:lastModifiedBy>Henry Dugan</cp:lastModifiedBy>
  <dcterms:modified xsi:type="dcterms:W3CDTF">2008-11-07T03:37:07Z</dcterms:modified>
  <cp:revision>12</cp:revision>
  <dc:subject/>
  <dc:title>Chapter 5</dc:title>
</cp:coreProperties>
</file>