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92A-E0E8-4FB5-8FEF-27E65092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936-BF7F-485C-A3C3-E34DE0FC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7C7-D9AA-4F29-9B94-2CFB10C1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8EA-B2E3-4207-9CC7-78675BE2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889B-D64F-4196-9979-44690C00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DA8B-BF4E-43E0-9207-C56B1011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3D4-ECBF-482B-BB53-9D844F5A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3AE-1817-4B01-A029-0BFA41E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0D83-57A5-408A-A797-4F83E84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D75E-24E0-4476-AD1F-35713E90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6700-D22A-4AF1-9049-9FAA686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79F-04AC-4028-8949-951C073E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F2EE-32C7-441F-8E6C-39917CA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E82-EDF1-4747-B408-D4FCDB5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EA27-367F-4674-BFFD-98B49366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9D71-CD7E-4004-9308-31B60581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8F4F-FA45-4470-BB00-C19DF188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53F-F41C-48BD-A68B-A462693E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641-EAA3-4737-A69B-011BAF05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428-5290-456A-A823-2ECEB237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EAB-255E-4CDB-A797-B40163B3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189-B17B-4DFE-B7E7-06F1707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9BF-29E8-4B2B-9D97-959741A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788-054A-4385-8640-BCF7FEE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725D-D067-4804-A3BD-7D90DC07F7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535-9A88-43CB-9B5A-72CE4170ED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5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n Americans in the Nation: 1783-18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ncipation- The freeing of enslaved African Americ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atlantic immigration- The immigration of white laborers from Europe to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s of Confederation- The constitution from which the Congress derived its authority between 1781 and 178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west Ordinance- Ordinance that provided for the formation of new states in the Old Northwest and banning of slavery in that reg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litionist- An advocate of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slavery societies- Societies formed under Quaker leadership to promote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nsated emancipation- Emancipation accompanied by the monetary compensation of former slave ow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mission- The legal freeing of a sla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ry Begins to Unf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and Chesapeake favored emancipation after the War for Independence en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ansatlantic immigration brings a lot of white laborers to the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hite laborers work very cheap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makes African slaves not as essential as bef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states such as Vermont, Massachusetts, and New Hampshire abolished slavery during the 1700s and 178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men in the Massachusetts gain the right to vote before 17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ul and John Cuffe (178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cut and Rhode Island adopted gradual abolition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onnecticut the state proposed that all children born to enslaved mother after March 1, 1784 would become free after their twenty-five birth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Rhode Island the state proposed that all children born to enslaved mother after March 1, 1784 would become free at bi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-Atlantic States (PA, NJ, 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states had more investment in slaves than the New England st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luctant to abolish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nsylvania voted that children of enslaved mothers would become free at twenty-eight in 17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99, New York agreed male slaves born after July 4 of that year would become free at twenty-e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New Jersey agreed that males slaves born after July 4, 1804 would become free at age twenty-f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twenty-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west Ordinance of 178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s of Confederation was were Congress drew its author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mas Jeffers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ern region be divided into separate terr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avery banned after 1800 from the Appalachians to the Mississippi River and from Spanish Flo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87 Congress adopted the Northwest Ordin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rovided orderly sale of land , support for public education, territorial government, and eventual formation of new sta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1720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like Jefferson proposal slavery was banned immediately in the are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of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slavery Societies in the North and the Upper 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Benezet organized the first antislavery society in 177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r became known as the Pennsylvania Society for Promoting the Abolition of Slavery (178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jamin Franklin became its presi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ntislavery societies aimed at gradual compensated emancipation for states such as Delaware, Maryland, and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te abolitionists were reluctant to challenge the property right of slaves own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they feared that freed elderly slaves would need long training before they could be fr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mission and Self-Purc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umission laws were liberalized in most southern states after the R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could free individual slaves by deed or wi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fore masters would have to go to court to prove that a slaves desired to be fre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slaves bought their freedom through self-purchase contr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enjoyed this because they were receiving in return for their lost of labor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f purchase could leave slaves in “financial slavery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Slave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ergence of A Free Black Class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free blacks in the Upper South blossomed from 1790 to 182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yland went from 8,043 free blacks to 39,730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ginia went from 12,766 free blacks to 36,889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ill most of the Upper South black population remained enslav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10.6% of blacks were free in the Upper South in 182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2:14:40Z</dcterms:created>
  <dc:creator>Henry Dugan</dc:creator>
  <dc:description/>
  <dc:language>en-US</dc:language>
  <cp:lastModifiedBy>Henry Dugan</cp:lastModifiedBy>
  <dcterms:modified xsi:type="dcterms:W3CDTF">2008-11-07T03:37:07Z</dcterms:modified>
  <cp:revision>12</cp:revision>
  <dc:subject/>
  <dc:title>Chapter 5</dc:title>
</cp:coreProperties>
</file>