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C58-6786-4EB2-BD86-7A6DB894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A1B-A335-4E20-8DF6-3F43B034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60F-5140-4D1B-9D31-AFC77FE9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2BB-539C-4DF1-8000-41866FF6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68B1-974A-49DC-8356-58F66688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022B-C477-4036-825A-8338BC4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1330-E359-4978-B1EF-1F116B0F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35C1-579C-4CF7-8F03-7E1D22AA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A107-E170-4E3A-81A5-8FACFB53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07B4-F34B-4816-8372-BDF8A197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5B42-58F7-4792-9434-71C8FEF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47D-365C-4C36-8848-28C20DCB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0ED1-021F-4B46-AE53-8634BD45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DFB3-CBFA-4715-9D5E-E7DBA97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5A41-E2F3-4E54-A87E-2AC5B59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551B-1E74-4199-86D6-938AADC2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3F17-838D-4467-826D-4F04F966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C58-C002-48DB-B503-0A7F728D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8FA-4C99-44B7-A23A-F856550A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960-54C1-4066-B6A0-93EF27D4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042-C13A-4264-8722-558D9C11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307-F6F3-4E30-8DCF-975211BD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429-FFD1-436F-ADC6-15DCD94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033-99D2-4DB5-B57A-0E5CA93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ABA0-DE77-440C-9C92-1E829E96F8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BE9-1C5E-4A43-85DC-78DFCED514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5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n Americans in the Nation: 1783-18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ncipation- The freeing of enslaved African Americ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atlantic immigration- The immigration of white laborers from Europe to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s of Confederation- The constitution from which the Congress derived its authority between 1781 and 178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west Ordinance- Ordinance that provided for the formation of new states in the Old Northwest and banning of slavery in that reg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litionist- An advocate of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slavery societies- Societies formed under Quaker leadership to promote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nsated emancipation- Emancipation accompanied by the monetary compensation of former slave ow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mission- The legal freeing of a sla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ry Begins to Unf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and Chesapeake favored emancipation after the War for Independence en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ansatlantic immigration brings a lot of white laborers to the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hite laborers work very cheap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makes African slaves not as essential as bef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states such as Vermont, Massachusetts, and New Hampshire abolished slavery during the 1700s and 178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men in the Massachusetts gain the right to vote before 17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ul and John Cuffe (178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cut and Rhode Island adopted gradual abolition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onnecticut the state proposed that all children born to enslaved mother after March 1, 1784 would become free after their twenty-five birth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Rhode Island the state proposed that all children born to enslaved mother after March 1, 1784 would become free at bi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-Atlantic States (PA, NJ, 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states had more investment in slaves than the New England st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luctant to abolish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nsylvania voted that children of enslaved mothers would become free at twenty-eight in 17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99, New York agreed male slaves born after July 4 of that year would become free at twenty-e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New Jersey agreed that males slaves born after July 4, 1804 would become free at age twenty-f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twenty-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west Ordinance of 178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s of Confederation was were Congress drew its author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mas Jeffers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ern region be divided into separate terr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avery banned after 1800 from the Appalachians to the Mississippi River and from Spanish Flo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87 Congress adopted the Northwest Ordin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rovided orderly sale of land , support for public education, territorial government, and eventual formation of new sta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1720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like Jefferson proposal slavery was banned immediately in the are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of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slavery Societies in the North and the Upper 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Benezet organized the first antislavery society in 177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r became known as the Pennsylvania Society for Promoting the Abolition of Slavery (178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jamin Franklin became its presi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ntislavery societies aimed at gradual compensated emancipation for states such as Delaware, Maryland, and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te abolitionists were reluctant to challenge the property right of slaves own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they feared that freed elderly slaves would need long training before they could be fr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mission and Self-Purc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umission laws were liberalized in most southern states after the R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could free individual slaves by deed or wi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fore masters would have to go to court to prove that a slaves desired to be fre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slaves bought their freedom through self-purchase contr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enjoyed this because they were receiving in return for their lost of labor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f purchase could leave slaves in “financial slavery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Slave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ergence of A Free Black Class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free blacks in the Upper South blossomed from 1790 to 182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yland went from 8,043 free blacks to 39,730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ginia went from 12,766 free blacks to 36,889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ill most of the Upper South black population remained enslav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10.6% of blacks were free in the Upper South in 182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2:14:40Z</dcterms:created>
  <dc:creator>Henry Dugan</dc:creator>
  <dc:description/>
  <dc:language>en-US</dc:language>
  <cp:lastModifiedBy>Henry Dugan</cp:lastModifiedBy>
  <dcterms:modified xsi:type="dcterms:W3CDTF">2008-11-07T03:37:07Z</dcterms:modified>
  <cp:revision>12</cp:revision>
  <dc:subject/>
  <dc:title>Chapter 5</dc:title>
</cp:coreProperties>
</file>