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6626-7A56-44B8-95C0-39C4BBC2C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EDEE-B3DE-43DC-BCAE-4A9D17BD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E1E2-E341-489F-9691-C31B431B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1E6D-936B-45B1-BF43-39494F556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6A4E-73C9-426C-B8A9-2CEF5810C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AFFC-4FBE-4B14-8CE1-8E6B06C9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B3F0-2677-4ADD-B3F4-F9E24F47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BBCE-8788-4AF8-9897-5CDD1846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BE4E-0149-4902-A99C-0BD60E81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EDC7-4AFA-4CC6-8FD4-7E9AD3F4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1D0C-D00D-4B7C-B9B7-2AAB1F60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E60F-577F-46DA-B4FE-11D00F5B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BE13-D430-4E36-9191-A3D75531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A821-1B02-48B3-B96C-02DE1B7E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F047-4DED-4F1B-9A59-64A5D041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563C-751E-49FF-98AD-22F2C233D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BD8F-D423-499D-BD16-39C8331D9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1875-F0A4-4A7A-8B37-7185BBC9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BDBD-EEE8-4649-A994-3F6F0607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4EE0-1F22-40E6-B8D5-1878B193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FD9D-05D8-4CD6-8C7B-4EEA455F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FBAF-C9BE-4D38-A3AB-E2F25BE4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47D2-AE6E-4E83-B004-06CDB8A7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28F2-15F3-4D9D-BF3E-DAAE2E68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3E54-C974-46CA-8CAB-AC7D31CE844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37FD-5FE4-4C82-893C-94AA1EE2B04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hapter 5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rican Americans in the Nation: 1783-182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ey Terms for Section 1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ancipation- The freeing of enslaved African America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atlantic immigration- The immigration of white laborers from Europe to Amer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ticles of Confederation- The constitution from which the Congress derived its authority between 1781 and 1789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rthwest Ordinance- Ordinance that provided for the formation of new states in the Old Northwest and banning of slavery in that reg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ey Terms for Section 1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olitionist- An advocate of the abolition of slave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tislavery societies- Societies formed under Quaker leadership to promote the abolition of slave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ensated emancipation- Emancipation accompanied by the monetary compensation of former slave own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umission- The legal freeing of a slav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ction 1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ces for Freedo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avery Begins to Unfo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rth and Chesapeake favored emancipation after the War for Independence end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ransatlantic immigration brings a lot of white laborers to the Nor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white laborers work very cheapl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makes African slaves not as essential as befo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ction 1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ces for Freedo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thern Emancip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England states such as Vermont, Massachusetts, and New Hampshire abolished slavery during the 1700s and 1780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ack men in the Massachusetts gain the right to vote before 179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ul and John Cuffe (178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ction 1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ces for Freedo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thern Emancip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necticut and Rhode Island adopted gradual abolition pla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Connecticut the state proposed that all children born to enslaved mother after March 1, 1784 would become free after their twenty-five birthda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Rhode Island the state proposed that all children born to enslaved mother after March 1, 1784 would become free at birt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ction 1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ces for Freedo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d-Atlantic States (PA, NJ, N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se states had more investment in slaves than the New England st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re reluctant to abolish slave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nsylvania voted that children of enslaved mothers would become free at twenty-eight in 1780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1799, New York agreed male slaves born after July 4 of that year would become free at twenty-eigh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females the age wa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New Jersey agreed that males slaves born after July 4, 1804 would become free at age twenty-f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females the age was twenty-o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ction 1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ces for Freedo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rthwest Ordinance of 178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cles of Confederation was were Congress drew its authori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omas Jeffers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stern region be divided into separate territor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lavery banned after 1800 from the Appalachians to the Mississippi River and from Spanish Flor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1787 Congress adopted the Northwest Ordinan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s provided orderly sale of land , support for public education, territorial government, and eventual formation of new sta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17200" indent="-37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like Jefferson proposal slavery was banned immediately in the are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ction 1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ces of Freedo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islavery Societies in the North and the Upper Sou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hony Benezet organized the first antislavery society in 1775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ter became known as the Pennsylvania Society for Promoting the Abolition of Slavery (178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njamin Franklin became its presid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Antislavery societies aimed at gradual compensated emancipation for states such as Delaware, Maryland, and Virgin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ite abolitionists were reluctant to challenge the property right of slaves owner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so they feared that freed elderly slaves would need long training before they could be fre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ction 1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ces for Freedo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umission and Self-Purch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umission laws were liberalized in most southern states after the Revolu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sters could free individual slaves by deed or wil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fore masters would have to go to court to prove that a slaves desired to be fre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ther slaves bought their freedom through self-purchase contra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sters enjoyed this because they were receiving in return for their lost of laborer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lf purchase could leave slaves in “financial slavery”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ction 1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ces for Slave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mergence of A Free Black Class in the Sou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mber of free blacks in the Upper South blossomed from 1790 to 182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yland went from 8,043 free blacks to 39,730 free blac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rginia went from 12,766 free blacks to 36,889 free blac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ill most of the Upper South black population remained enslave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ly 10.6% of blacks were free in the Upper South in 1820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22:14:40Z</dcterms:created>
  <dc:creator>Henry Dugan</dc:creator>
  <dc:description/>
  <dc:language>en-US</dc:language>
  <cp:lastModifiedBy>Henry Dugan</cp:lastModifiedBy>
  <dcterms:modified xsi:type="dcterms:W3CDTF">2008-11-07T03:37:07Z</dcterms:modified>
  <cp:revision>12</cp:revision>
  <dc:subject/>
  <dc:title>Chapter 5</dc:title>
</cp:coreProperties>
</file>