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329B-FCFF-4473-BB57-E73B0BFAA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2EFB-3A02-4EAA-BAB6-9C88B549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670C-64A5-45C9-9B66-189776A2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02F9-798F-4E69-89B1-58CC8F32F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FEDF-0D57-457A-9615-CF83991E8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3194-9339-4C82-9030-F3B620F9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2701-0629-400D-80D3-7CC17155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3BEE-58D5-464F-BAE4-F9ABBA67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7418-8813-4F0B-AB58-FE0F0A4B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7665-033F-4D43-8704-FEDCDC49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A045-365D-4D78-A283-B4DE730C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1F21-A2F3-4C2C-8D7C-BF7BC539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C5E7-51D8-4DDB-BEFB-F3AA132A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2962-9D97-495B-A36C-48143EFA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C244-8B0E-45D0-ADD0-84F4E944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793B-DCD3-47B0-8709-4A7E72B20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EA3E-0DD1-4FAE-8E87-5ED7CC5EF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5F7E-E2FF-467D-BB0B-CFA05018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678F-47CC-48BE-9622-4479E4A7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8294-61FF-49F4-B1C0-4F085B80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C46B-796C-4C90-95D8-6B89DF2D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50FD-16EB-49A4-95CF-356C2984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F53B-723A-4889-8528-7885065A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EE70-3593-4B16-B3B5-CFF67290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06BE-770C-4BB1-BD75-008DFB34F53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57DE-1E56-4953-A8E4-232FE22DF1C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hapter 5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rican Americans in the Nation: 1783-182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ey Terms for Section 1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ancipation- The freeing of enslaved African America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atlantic immigration- The immigration of white laborers from Europe to Amer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ticles of Confederation- The constitution from which the Congress derived its authority between 1781 and 1789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rthwest Ordinance- Ordinance that provided for the formation of new states in the Old Northwest and banning of slavery in that reg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ey Terms for Section 1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olitionist- An advocate of the abolition of slave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tislavery societies- Societies formed under Quaker leadership to promote the abolition of slave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ensated emancipation- Emancipation accompanied by the monetary compensation of former slave own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umission- The legal freeing of a slav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ction 1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ces for Freedo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avery Begins to Unfo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rth and Chesapeake favored emancipation after the War for Independence end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ransatlantic immigration brings a lot of white laborers to the Nor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white laborers work very cheapl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makes African slaves not as essential as befo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ction 1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ces for Freedo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thern Emancip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England states such as Vermont, Massachusetts, and New Hampshire abolished slavery during the 1700s and 1780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ack men in the Massachusetts gain the right to vote before 179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ul and John Cuffe (178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ction 1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ces for Freedo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thern Emancip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necticut and Rhode Island adopted gradual abolition pla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Connecticut the state proposed that all children born to enslaved mother after March 1, 1784 would become free after their twenty-five birthda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Rhode Island the state proposed that all children born to enslaved mother after March 1, 1784 would become free at birt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ction 1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ces for Freedo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d-Atlantic States (PA, NJ, N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se states had more investment in slaves than the New England st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re reluctant to abolish slave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nsylvania voted that children of enslaved mothers would become free at twenty-eight in 1780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1799, New York agreed male slaves born after July 4 of that year would become free at twenty-eigh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females the age wa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New Jersey agreed that males slaves born after July 4, 1804 would become free at age twenty-f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females the age was twenty-o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ction 1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ces for Freedo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rthwest Ordinance of 178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cles of Confederation was were Congress drew its authori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omas Jeffers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stern region be divided into separate territor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lavery banned after 1800 from the Appalachians to the Mississippi River and from Spanish Flor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1787 Congress adopted the Northwest Ordinan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s provided orderly sale of land , support for public education, territorial government, and eventual formation of new sta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17200" indent="-37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like Jefferson proposal slavery was banned immediately in the are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ction 1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ces of Freedo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islavery Societies in the North and the Upper Sou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hony Benezet organized the first antislavery society in 1775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ter became known as the Pennsylvania Society for Promoting the Abolition of Slavery (178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njamin Franklin became its presid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Antislavery societies aimed at gradual compensated emancipation for states such as Delaware, Maryland, and Virgin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ite abolitionists were reluctant to challenge the property right of slaves owner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so they feared that freed elderly slaves would need long training before they could be fre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ction 1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ces for Freedo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umission and Self-Purch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umission laws were liberalized in most southern states after the Revolu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sters could free individual slaves by deed or wil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fore masters would have to go to court to prove that a slaves desired to be fre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ther slaves bought their freedom through self-purchase contra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sters enjoyed this because they were receiving in return for their lost of laborer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lf purchase could leave slaves in “financial slavery”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ction 1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ces for Slave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mergence of A Free Black Class in the Sou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mber of free blacks in the Upper South blossomed from 1790 to 182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yland went from 8,043 free blacks to 39,730 free blac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rginia went from 12,766 free blacks to 36,889 free blac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ill most of the Upper South black population remained enslave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ly 10.6% of blacks were free in the Upper South in 1820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22:14:40Z</dcterms:created>
  <dc:creator>Henry Dugan</dc:creator>
  <dc:description/>
  <dc:language>en-US</dc:language>
  <cp:lastModifiedBy>Henry Dugan</cp:lastModifiedBy>
  <dcterms:modified xsi:type="dcterms:W3CDTF">2008-11-07T03:37:07Z</dcterms:modified>
  <cp:revision>12</cp:revision>
  <dc:subject/>
  <dc:title>Chapter 5</dc:title>
</cp:coreProperties>
</file>