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8AD-5E03-4C5B-99D9-5C418568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CB1F-80E9-46A4-9EEF-A27A1A99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716-66A4-4370-A2C9-A3160758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CCE-5E73-41E2-9037-19D9DAAF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56A-65B7-48B2-9A01-3383407B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527E-E756-4949-9473-2EDCB914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F884-6144-436B-8057-D9EB3626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4E5-9522-4562-9BD8-4046776A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260-EF7E-4E8A-B614-4B797AE5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ADE-7529-4DA4-8166-5E84B3A5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CA1B-2F4E-40B5-A7FB-82FC5780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A89-2016-4C70-BE37-A51C7059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7861-8BB8-422E-97BB-FD985E278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“Stonewall” Jack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Du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ley 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Valley Campaign, Jackson’s reputation quickly g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marched his army 646 miles in 48 days and won five battles with an army a third of the size of his oppon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received the nickname “foot cavalry”, because of his reputation of moving his troops so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Batt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“Stonewall” Jackson also had great success in the battles of Second Bull Run, Antietam, and Fredericksbu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even Days Battles, Jackson did not receive the same success.  The actions of Jackson during these battles were considerate poor and slugg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son was walking back to his camp, when he was shot by a member of his own army accident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mistaken for a Union solider, and was shot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son’s left arm had to be amputated because of the w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ied eight days later due to complications of pneumo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00760" y="1828800"/>
            <a:ext cx="3333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n the S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th of Thomas Jackson was a huge blow the Confed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th was losing the service of the great commander, and it lowered the morale of the Confederation significa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Robert E. Lee heard of the death of Jackson, he said, “I have lost my right arm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nificance of Thomas “Stonewall” Jack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considered one of the best commanders to ever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elped the Confederacy win key battles over the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works and teachings are still used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one of the most prominent figures in the Civil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Jonathan Jackson was born January 21, 182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parents were Julia Beckwith Jackson and Jonathan Jack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time Thomas Jackson was seven years old, both of his parents were d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Jackson was sent to live with his uncle, Cummings Jack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st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Jackson was accepted to United States Military Academy at West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started at the bottom of his class, when he entered in 184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time that Jackson graduated he was number 17 in his class of 59 students, he graduated in 184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Military Car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son started his military career by serving in the Mexican-American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became the rank of first lieutenant by the end of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n Mexico during the War, Jackson first met Robert E. 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86440" y="1523880"/>
            <a:ext cx="3139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ginia Military Instit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became a teacher at VMI in Lexington, Virgi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Professor of Natural and Experimental Philosophy and Instructor of Artill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teachings are still used today at V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was not well liked by his students, they even tried to get him removed from his posi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Civil War broke out, Thomas Jackson served for the Confederate States Ar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first Jackson was drill master for new recruits of the Confederate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on though was asked to command the “Stonewall Brigad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newal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irst Battle of Bull Run, Thomas Jackson sent in reinforcements from is brigade to stop the Confederate Army from crumb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the battle where Jackson received his nickname “Stonewal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ickname was inspired by General Bernard Elliott Bee Jr.  Apparently during the battle Bee shouted, "There is Jackson standing like a stone wall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is battle Jackson was promoted to major ge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2908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9:41:47Z</dcterms:created>
  <dc:creator>Henry Dugan</dc:creator>
  <dc:description/>
  <dc:language>en-US</dc:language>
  <cp:lastModifiedBy>Henry Dugan</cp:lastModifiedBy>
  <dcterms:modified xsi:type="dcterms:W3CDTF">2008-11-07T03:37:34Z</dcterms:modified>
  <cp:revision>28</cp:revision>
  <dc:subject/>
  <dc:title>Thomas “Stonewall” Jackson</dc:title>
</cp:coreProperties>
</file>