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5A31-7456-40E5-9A38-AEFF5EEC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C9F7-DA55-406F-A3AA-365E6E96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E7DE-7EB9-4BC4-A166-E5263FBB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895D-3EAA-4DD1-9B21-4D1817C7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8C4-894D-4BF8-AB7A-4230E642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2DD8-D618-4111-BAD6-2AA01E73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D2C4-8126-4020-A9A2-62AC013D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6CCC-4FD7-418A-A762-8BBF34FA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245-A5FA-4CB9-9ACF-A4AAF99C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7AC5-DF60-4366-9C33-465C454B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C11E-8402-4FC4-BF42-B6F0FFCB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3D71-28D1-4ED8-9B7F-08710A19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7208-3829-4303-B48D-E3A75D61B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mas “Stonewall” Jack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Du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ley 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Valley Campaign, Jackson’s reputation quickly g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marched his army 646 miles in 48 days and won five battles with an army a third of the size of his oppon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received the nickname “foot cavalry”, because of his reputation of moving his troops so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Batt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“Stonewall” Jackson also had great success in the battles of Second Bull Run, Antietam, and Fredericksbur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even Days Battles, Jackson did not receive the same success.  The actions of Jackson during these battles were considerate poor and slugg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son was walking back to his camp, when he was shot by a member of his own army accident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mistaken for a Union solider, and was shot thre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son’s left arm had to be amputated because of the w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died eight days later due to complications of pneumo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00760" y="1828800"/>
            <a:ext cx="3333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n the S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ath of Thomas Jackson was a huge blow the Confed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th was losing the service of the great commander, and it lowered the morale of the Confederation significa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Robert E. Lee heard of the death of Jackson, he said, “I have lost my right arm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nificance of Thomas “Stonewall” Jack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considered one of the best commanders to ever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elped the Confederacy win key battles over the U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works and teachings are still used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one of the most prominent figures in the Civil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Jonathan Jackson was born January 21, 182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parents were Julia Beckwith Jackson and Jonathan Jack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time Thomas Jackson was seven years old, both of his parents were d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Jackson was sent to live with his uncle, Cummings Jack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st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Jackson was accepted to United States Military Academy at West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started at the bottom of his class, when he entered in 184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time that Jackson graduated he was number 17 in his class of 59 students, he graduated in 184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Military Car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son started his military career by serving in the Mexican-American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became the rank of first lieutenant by the end of the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n Mexico during the War, Jackson first met Robert E. 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86440" y="1523880"/>
            <a:ext cx="3139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ginia Military Instit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became a teacher at VMI in Lexington, Virgi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Professor of Natural and Experimental Philosophy and Instructor of Artill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teachings are still used today at V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was not well liked by his students, they even tried to get him removed from his posi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Civil War broke out, Thomas Jackson served for the Confederate States Ar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first Jackson was drill master for new recruits of the Confederate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on though was asked to command the “Stonewall Brigad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newall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irst Battle of Bull Run, Thomas Jackson sent in reinforcements from is brigade to stop the Confederate Army from crumb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the battle where Jackson received his nickname “Stonewall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ickname was inspired by General Bernard Elliott Bee Jr.  Apparently during the battle Bee shouted, "There is Jackson standing like a stone wall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this battle Jackson was promoted to major ge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2908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9:41:47Z</dcterms:created>
  <dc:creator>Henry Dugan</dc:creator>
  <dc:description/>
  <dc:language>en-US</dc:language>
  <cp:lastModifiedBy>Henry Dugan</cp:lastModifiedBy>
  <dcterms:modified xsi:type="dcterms:W3CDTF">2008-11-07T03:37:34Z</dcterms:modified>
  <cp:revision>28</cp:revision>
  <dc:subject/>
  <dc:title>Thomas “Stonewall” Jackson</dc:title>
</cp:coreProperties>
</file>