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AEA9-0151-4DE3-809F-E4B5D706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7241-7555-4A86-BCFD-9E527175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C689-7255-4134-A550-603539B4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F9F2-2428-4D87-8A86-391502D2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0F4-1E77-4E41-99BF-7D01F4EE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0B1C-8610-4E85-9B1E-D93636C0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237D-4DAA-4374-89C9-094216B9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6F8-D38F-4227-B486-E602A3EA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8A00-D692-4B2E-B612-F2DAC95B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68C-FF19-4A74-88A6-9250115A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7DB-4B9A-4DDD-9A4F-82822403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038C-E3C3-477F-A0F1-7FC6D0C8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B68B-F249-4FF7-A819-2BA9A0925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mas “Stonewall” Jack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Du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ley 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Valley Campaign, Jackson’s reputation quickly g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marched his army 646 miles in 48 days and won five battles with an army a third of the size of his oppon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received the nickname “foot cavalry”, because of his reputation of moving his troops so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Batt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“Stonewall” Jackson also had great success in the battles of Second Bull Run, Antietam, and Fredericksbur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even Days Battles, Jackson did not receive the same success.  The actions of Jackson during these battles were considerate poor and slugg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son was walking back to his camp, when he was shot by a member of his own army accident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mistaken for a Union solider, and was shot thre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son’s left arm had to be amputated because of the w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died eight days later due to complications of pneumo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00760" y="1828800"/>
            <a:ext cx="3333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n the S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ath of Thomas Jackson was a huge blow the Confed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th was losing the service of the great commander, and it lowered the morale of the Confederation significa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Robert E. Lee heard of the death of Jackson, he said, “I have lost my right arm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nificance of Thomas “Stonewall” Jack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considered one of the best commanders to ever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elped the Confederacy win key battles over the U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works and teachings are still used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one of the most prominent figures in the Civil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Jonathan Jackson was born January 21, 182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parents were Julia Beckwith Jackson and Jonathan Jack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time Thomas Jackson was seven years old, both of his parents were d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Jackson was sent to live with his uncle, Cummings Jack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st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Jackson was accepted to United States Military Academy at West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started at the bottom of his class, when he entered in 184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time that Jackson graduated he was number 17 in his class of 59 students, he graduated in 184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Military Car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son started his military career by serving in the Mexican-American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became the rank of first lieutenant by the end of the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n Mexico during the War, Jackson first met Robert E. 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86440" y="1523880"/>
            <a:ext cx="3139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ginia Military Instit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became a teacher at VMI in Lexington, Virgi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Professor of Natural and Experimental Philosophy and Instructor of Artill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teachings are still used today at V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was not well liked by his students, they even tried to get him removed from his posi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Civil War broke out, Thomas Jackson served for the Confederate States Ar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first Jackson was drill master for new recruits of the Confederate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on though was asked to command the “Stonewall Brigad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newall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irst Battle of Bull Run, Thomas Jackson sent in reinforcements from is brigade to stop the Confederate Army from crumb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the battle where Jackson received his nickname “Stonewall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ickname was inspired by General Bernard Elliott Bee Jr.  Apparently during the battle Bee shouted, "There is Jackson standing like a stone wall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this battle Jackson was promoted to major ge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2908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9:41:47Z</dcterms:created>
  <dc:creator>Henry Dugan</dc:creator>
  <dc:description/>
  <dc:language>en-US</dc:language>
  <cp:lastModifiedBy>Henry Dugan</cp:lastModifiedBy>
  <dcterms:modified xsi:type="dcterms:W3CDTF">2008-11-07T03:37:34Z</dcterms:modified>
  <cp:revision>28</cp:revision>
  <dc:subject/>
  <dc:title>Thomas “Stonewall” Jackson</dc:title>
</cp:coreProperties>
</file>