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160-FF37-439E-BACD-2D2E0017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604-C4FB-40EE-9EA0-8591A683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C35-EEE1-44CE-84E1-D176D826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BD3-E07E-4498-931B-3F5C4CB0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09D-9FA1-4F4D-B109-29C83CD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63D-054D-4653-AF59-DD51732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5CA-A830-4051-A24A-D1B908C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7D5-1FDF-448F-8ECD-2D8BBA4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586-C7CF-4B64-9A93-73EF81CA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835-0107-4FA1-942E-AABA6CF6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118-6AB1-4C9F-A922-EB97336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52D-6171-47A9-ADEE-104B57A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C2CD-7823-452B-941B-3D19B9ED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“Stonewall”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u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Valley Campaign, Jackson’s reputation quickly g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marched his army 646 miles in 48 days and won five battles with an army a third of the size of his op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received the nickname “foot cavalry”, because of his reputation of moving his troops so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Bat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“Stonewall” Jackson also had great success in the battles of Second Bull Run, Antietam, and Frederick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ven Days Battles, Jackson did not receive the same success.  The actions of Jackson during these battles were considerate poor and slugg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was walking back to his camp, when he was shot by a member of his own army accident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mistaken for a Union solider, and was shot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’s left arm had to be amputated because of the w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eight days later due to complications of pneum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0760" y="1828800"/>
            <a:ext cx="333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the 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omas Jackson was a huge blow the Confed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th was losing the service of the great commander, and it lowered the morale of the Confederation significa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obert E. Lee heard of the death of Jackson, he said, “I have lost my right ar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ificance of Thomas “Stonewall”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considered one of the best commanders to ever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elped the Confederacy win key battles over the U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works and teachings are still use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ne of the most prominent figures in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onathan Jackson was born January 21, 18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Julia Beckwith Jackson and Jonathan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omas Jackson was seven years old, both of his parents were d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sent to live with his uncle, Cummings Jack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Jackson was accepted to United States Military Academy at West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started at the bottom of his class, when he entered in 184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time that Jackson graduated he was number 17 in his class of 59 students, he graduated in 184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litary 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started his military career by serving in the Mexican-American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the rank of first lieutenant by the end of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 Mexico during the War, Jackson first met Robert E.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86440" y="1523880"/>
            <a:ext cx="3139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Military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became a teacher at VMI in Lexington, Virgi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rofessor of Natural and Experimental Philosophy and Instructor of Artill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teachings are still used today at V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was not well liked by his students, they even tried to get him removed from his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ivil War broke out, Thomas Jackson served for the Confederate States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 Jackson was drill master for new recruits of the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n though was asked to command the “Stonewall Briga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newal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Battle of Bull Run, Thomas Jackson sent in reinforcements from is brigade to stop the Confederate Army from crumb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the battle where Jackson received his nickname “Stonewal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ickname was inspired by General Bernard Elliott Bee Jr.  Apparently during the battle Bee shouted, "There is Jackson standing like a stone wall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battle Jackson was promoted to major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908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41:47Z</dcterms:created>
  <dc:creator>Henry Dugan</dc:creator>
  <dc:description/>
  <dc:language>en-US</dc:language>
  <cp:lastModifiedBy>Henry Dugan</cp:lastModifiedBy>
  <dcterms:modified xsi:type="dcterms:W3CDTF">2008-11-07T03:37:34Z</dcterms:modified>
  <cp:revision>28</cp:revision>
  <dc:subject/>
  <dc:title>Thomas “Stonewall” Jackson</dc:title>
</cp:coreProperties>
</file>