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947-EB80-4882-AB5A-26A9D8FC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7DF-5C51-46C1-8A37-ED3390C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743-10C1-4FB5-8DF3-441F9BD6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362-2A7C-4037-BF3A-7FA2D8A8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857-C2EF-48A1-8DA3-441270E2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1D3-7A4F-4067-84E6-064AEB34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299-7AE8-4D11-BEEB-494A275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5A7-B77A-4E26-8E9F-2ADB2E09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497-1645-4A76-82E8-D3A57C7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3D5-5DC4-4C7D-9E97-3FB9728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ED7-D251-4473-B33C-B4ADBC9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85C-5857-44A0-B931-AC37E2F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5BB-693B-4191-9E0B-0C86E1C4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“Stonewall”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Valley Campaign, Jackson’s reputation quickly g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marched his army 646 miles in 48 days and won five battles with an army a third of the size of his op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ceived the nickname “foot cavalry”, because of his reputation of moving his troops so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Bat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“Stonewall” Jackson also had great success in the battles of Second Bull Run, Antietam, and Frederick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ven Days Battles, Jackson did not receive the same success.  The actions of Jackson during these battles were considerate poor and slugg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was walking back to his camp, when he was shot by a member of his own army accid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mistaken for a Union solider, and was shot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’s left arm had to be amputated because of the w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eight days later due to complications of pneum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0760" y="1828800"/>
            <a:ext cx="333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the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omas Jackson was a huge blow the Confe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 was losing the service of the great commander, and it lowered the morale of the Confederation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obert E. Lee heard of the death of Jackson, he said, “I have lost my right ar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Thomas “Stonewall”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considered one of the best commanders to ever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elped the Confederacy win key battles over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and teachings are still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e of the most prominent figures in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onathan Jackson was born January 21, 18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Julia Beckwith Jackson and Jonathan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omas Jackson was seven years old, both of his parents wer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sent to live with his uncle, Cummings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accepted to United States Military Academy at We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tarted at the bottom of his class, when he entered in 184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at Jackson graduated he was number 17 in his class of 59 students, he graduated in 18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litary 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started his military career by serving in the Mexican-American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the rank of first lieutenant by the end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 Mexico during the War, Jackson first met Robert E.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86440" y="1523880"/>
            <a:ext cx="313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Military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became a teacher at VMI in Lexington, Virgi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rofessor of Natural and Experimental Philosophy and Instructor of Arti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achings are still used today at V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was not well liked by his students, they even tried to get him removed from his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ivil War broke out, Thomas Jackson served for the Confederate State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 Jackson was drill master for new recruits of the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hough was asked to command the “Stonewall Briga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w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of Bull Run, Thomas Jackson sent in reinforcements from is brigade to stop the Confederate Army from crumb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battle where Jackson received his nickname “Stonewal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ickname was inspired by General Bernard Elliott Bee Jr.  Apparently during the battle Bee shouted, "There is Jackson standing like a stone wall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battle Jackson was promoted to major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90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41:47Z</dcterms:created>
  <dc:creator>Henry Dugan</dc:creator>
  <dc:description/>
  <dc:language>en-US</dc:language>
  <cp:lastModifiedBy>Henry Dugan</cp:lastModifiedBy>
  <dcterms:modified xsi:type="dcterms:W3CDTF">2008-11-07T03:37:34Z</dcterms:modified>
  <cp:revision>28</cp:revision>
  <dc:subject/>
  <dc:title>Thomas “Stonewall” Jackson</dc:title>
</cp:coreProperties>
</file>