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E354-535C-437C-B82D-01061DF3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BEEC-1361-4BC1-864E-0AEB83FCF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2D93-2576-4F0C-99DE-DF5D6D869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A04C-9CFE-4F97-A028-70C7F358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69DB-F9BB-4522-9825-0BD5C65F5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7A5F-BCF5-442D-B9FC-EEBF0287E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CDAE-496D-4FEC-B833-51725544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2CFE-A291-44EB-81AC-1A865B6B2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6CB1-EA28-4F35-8B0F-2259D77D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6BF0-505F-44DF-9982-5DA330D8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0888-0B1E-4A7A-905E-F6DFBAAF8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499-E1B5-478F-81BA-E7B751F4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D64F-4989-4E3E-AFEF-8E669F449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2ACD-6BA6-40B6-8A4F-53896B102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7A11-D6EA-43AC-9757-DA697690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919E-01E1-4E03-9A45-7D61FA075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3890-FE31-40F4-8345-3E02544A8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6D0-F28A-4E77-8208-FEE25A57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BD7-3153-4A7B-BB53-D83A62F2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1B4-5912-42C3-B3E3-0A4F2654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B6D-8DBF-4BEF-AA81-47724CEF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BB3-724E-4ED8-99D1-FB19C74C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CE0-236E-4DAC-85A3-FA4F1EDE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2A1-069E-4F45-8A67-1D4D3CCB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FF1-AF9C-4A35-B4DC-B3AE21CA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3D4-79AC-4F7C-8A83-7434DA22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98DB-8179-4E0D-A804-E8F24A83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9DA-641F-4E98-8809-19AF232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888-74B0-4C9A-9E0F-2AF5D8EC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734E-42A7-445A-8613-A4EBD7348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hyperlink" Target="http://www.youtube.com/watch?v=doqgPsmT7tc" TargetMode="External"/><Relationship Id="rId4" Type="http://schemas.openxmlformats.org/officeDocument/2006/relationships/hyperlink" Target="http://www.youtube.com/watch?v=doqgPsmT7tc" TargetMode="External"/><Relationship Id="rId5" Type="http://schemas.openxmlformats.org/officeDocument/2006/relationships/hyperlink" Target="http://www.youtube.com/watch?v=doqgPsmT7tc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gCxsdmsgsE" TargetMode="External"/><Relationship Id="rId3" Type="http://schemas.openxmlformats.org/officeDocument/2006/relationships/hyperlink" Target="http://www.youtube.com/watch?v=ggCxsdmsgsE" TargetMode="External"/><Relationship Id="rId4" Type="http://schemas.openxmlformats.org/officeDocument/2006/relationships/hyperlink" Target="http://www.youtube.com/watch?v=ggCxsdmsgsE" TargetMode="External"/><Relationship Id="rId5" Type="http://schemas.openxmlformats.org/officeDocument/2006/relationships/hyperlink" Target="http://www.youtube.com/watch?v=ggCxsdmsgs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3KcWYhS8JY&amp;feature=related" TargetMode="External"/><Relationship Id="rId2" Type="http://schemas.openxmlformats.org/officeDocument/2006/relationships/hyperlink" Target="http://www.youtube.com/watch?v=z3KcWYhS8JY&amp;feature=related" TargetMode="External"/><Relationship Id="rId3" Type="http://schemas.openxmlformats.org/officeDocument/2006/relationships/hyperlink" Target="http://www.youtube.com/watch?v=z3KcWYhS8JY&amp;feature=related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ivil War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1861-186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rmin1b.wav" descr=""/>
          <p:cNvPicPr/>
          <p:nvPr/>
        </p:nvPicPr>
        <p:blipFill>
          <a:blip r:embed="rId1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57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War Rif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field Rifle Musk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rifle in the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hit a target from 500 yards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field Rifle Mus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the second most used rifle in the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t was a standard weapon of the Brit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mericans did like the Enfield, but soldiers preferred the Springfield because it offered interchangeabl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en"/>
          <p:cNvPicPr/>
          <p:nvPr/>
        </p:nvPicPr>
        <p:blipFill>
          <a:blip r:embed="rId1"/>
          <a:stretch/>
        </p:blipFill>
        <p:spPr>
          <a:xfrm>
            <a:off x="5410080" y="1981080"/>
            <a:ext cx="2706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fle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number of other ri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rifle, Spencer rifle, Brunswick rifle, Burnside Carb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300px-Burnside_carbine"/>
          <p:cNvPicPr/>
          <p:nvPr/>
        </p:nvPicPr>
        <p:blipFill>
          <a:blip r:embed="rId1"/>
          <a:stretch/>
        </p:blipFill>
        <p:spPr>
          <a:xfrm>
            <a:off x="685800" y="4267080"/>
            <a:ext cx="7315200" cy="1803600"/>
          </a:xfrm>
          <a:prstGeom prst="rect">
            <a:avLst/>
          </a:prstGeom>
          <a:ln w="0">
            <a:noFill/>
          </a:ln>
        </p:spPr>
      </p:pic>
      <p:pic>
        <p:nvPicPr>
          <p:cNvPr id="85" name="m1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2670120" y="6248520"/>
            <a:ext cx="50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doqgPsmT7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9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tols and Revol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housands of different styles used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ly used one was the Colt R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the .44 caliber model 1860 and the .36 caliber Model 1851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wo guns were very light weight less than 3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lt4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9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ese were weapons such as bayonets, swords, knives, sabers, pikes, 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Were often used more to decorate their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Very few men were injured in the Civil War by these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2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95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35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5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 of Edged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895840" cy="218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28767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uries from Weap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not much medicine in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chest or head with one of these weapons, you were most likely left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hit in the leg or arm with one of these weapons, your leg or arm would most likely be ampu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here was no anesthesia or pain medi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cream.aiff" descr=""/>
          <p:cNvPicPr/>
          <p:nvPr/>
        </p:nvPicPr>
        <p:blipFill>
          <a:blip r:embed="rId1"/>
          <a:stretch/>
        </p:blipFill>
        <p:spPr>
          <a:xfrm>
            <a:off x="61722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828800" y="647712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gCxsdmsg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791320" y="2438280"/>
            <a:ext cx="219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99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Fought between the Union (North) and the Confederacy (Sout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war lasted from 1861-18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Over half of a million men are killed in the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The Union wins the Civil w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Leads to slavery being abolished and reconstruction in the sou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lipArt Placeholder 5" descr="civil.jpg"/>
          <p:cNvPicPr/>
          <p:nvPr/>
        </p:nvPicPr>
        <p:blipFill>
          <a:blip r:embed="rId1"/>
          <a:stretch/>
        </p:blipFill>
        <p:spPr>
          <a:xfrm>
            <a:off x="5334120" y="2133720"/>
            <a:ext cx="322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23 states that remained loyal to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11 states that seceded from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lipArt Placeholder 4" descr="flags.jpg"/>
          <p:cNvPicPr/>
          <p:nvPr/>
        </p:nvPicPr>
        <p:blipFill>
          <a:blip r:embed="rId1"/>
          <a:stretch/>
        </p:blipFill>
        <p:spPr>
          <a:xfrm>
            <a:off x="5638680" y="2362320"/>
            <a:ext cx="25225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War Background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ion Lead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braham Lincoln (President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lysses S. Grant (Lincoln best General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lipArt Placeholder 8" descr="G3LRCAHHYBZECAMJLPZKCAFZN8TCCADJUTE0CAKH8CFLCA0233E1CATCB117CA6DDFEYCAJ3FBAQCASJ3LV3CASLXX4QCASZB209CABMD4PZCAFS40UCCAHC7JO0CAQSLZDICAMKV6FACAUDXCB5CACUR7ND.jpg"/>
          <p:cNvPicPr/>
          <p:nvPr/>
        </p:nvPicPr>
        <p:blipFill>
          <a:blip r:embed="rId1"/>
          <a:stretch/>
        </p:blipFill>
        <p:spPr>
          <a:xfrm>
            <a:off x="5943600" y="1828800"/>
            <a:ext cx="1600200" cy="210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PO3CAN8WEWHCALL42HHCAR4PWWDCAOPBUG4CAQNY68SCAASWEAECA0S8V1ZCA438IEXCASSFA8CCA11R6J3CAVDQ45UCA46GQ93CAQAPZ2KCA7RM838CAV6RU5NCAU8YAQNCAVFS544CAARL5X8CAM3VYZ9.jpg"/>
          <p:cNvPicPr/>
          <p:nvPr/>
        </p:nvPicPr>
        <p:blipFill>
          <a:blip r:embed="rId2"/>
          <a:stretch/>
        </p:blipFill>
        <p:spPr>
          <a:xfrm>
            <a:off x="6019920" y="4267080"/>
            <a:ext cx="166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ivil War Backgroun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nfederation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Jefferson Davis (Presid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obert E. Lee (Gene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lipArt Placeholder 5" descr="232YCAEBW0NSCAO87LLDCAI0O79GCA3VL6WFCAJH8IAICA84O25SCABY8J4WCA9A1QRYCA5M1GJJCA66F9K7CA1EG2EOCAUKR973CAB4GSFPCAERJ3EYCARUGNWXCAM2LDAUCAMS8GKUCAG4U1UBCAQZ369Q.jpg"/>
          <p:cNvPicPr/>
          <p:nvPr/>
        </p:nvPicPr>
        <p:blipFill>
          <a:blip r:embed="rId1"/>
          <a:stretch/>
        </p:blipFill>
        <p:spPr>
          <a:xfrm>
            <a:off x="6172200" y="1905120"/>
            <a:ext cx="1600200" cy="204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LU3CAQTB8GDCAES56KMCAVIMSVGCAPQM6HMCA3ZI3D3CA91H2MBCALMROI3CA50YASQCAIWQHMJCA7CVAGTCAENEO95CAXTKEHWCA2NU5C9CAY5ZORDCAONTWQRCA5JBP6KCAPF6MJJCARCOBDLCANZSUVJ.jpg"/>
          <p:cNvPicPr/>
          <p:nvPr/>
        </p:nvPicPr>
        <p:blipFill>
          <a:blip r:embed="rId2"/>
          <a:stretch/>
        </p:blipFill>
        <p:spPr>
          <a:xfrm>
            <a:off x="6172200" y="4343400"/>
            <a:ext cx="16765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w its time to get it to the good stuf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Sj04310810000[1]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2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eapons  Used in the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Artillery – Cann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Small arms – rifles, muskets, pistols, revolv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Edged Weapons – Swords, knives, bayonets, sab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wea"/>
          <p:cNvPicPr/>
          <p:nvPr/>
        </p:nvPicPr>
        <p:blipFill>
          <a:blip r:embed="rId1"/>
          <a:stretch/>
        </p:blipFill>
        <p:spPr>
          <a:xfrm>
            <a:off x="5257800" y="1828800"/>
            <a:ext cx="237492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0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apoleon Cann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 flipV="1">
            <a:off x="2590920" y="594072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z3KcWYhS8J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85800" y="2514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81480" y="259092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3:41:55Z</dcterms:created>
  <dc:creator>Henry Dugan</dc:creator>
  <dc:description/>
  <dc:language>en-US</dc:language>
  <cp:lastModifiedBy>Henry Dugan</cp:lastModifiedBy>
  <dcterms:modified xsi:type="dcterms:W3CDTF">2008-11-10T01:20:30Z</dcterms:modified>
  <cp:revision>35</cp:revision>
  <dc:subject/>
  <dc:title>Civil War 1861-1865 </dc:title>
</cp:coreProperties>
</file>