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20CB-1E2C-493B-9AE1-C9CC9AF97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73B6-9A3D-41A8-A03B-76A77875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AB88-2F96-45F4-B291-CDA40019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3E60-0CE2-4861-913E-2D2B8FB18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E6AB-982E-4714-9C62-AA224153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4441-A082-44B0-A2A1-AB6A07CB4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6AA-7F94-48C6-B2C2-3CC42A015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9D5D-E47A-4576-A9B1-0FBF3B5DA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B248-4321-43F0-A196-FFC65C93F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474D-1600-4C61-8D36-04BCC65E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0754-5461-4DBC-8704-28FFB8CC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0287-C1C6-4CEC-841E-D7B4F534A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3DF-59B0-4693-B5BF-1C6F58B94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290D-704D-45D9-A405-0BC1F12B2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CC77-78A5-4AEC-AAF2-53366DAD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124E-302F-4E86-9C7E-B6D94CEC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263D-D09F-4323-BA73-83699DBC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516-C0AF-47B1-A786-0BE3AB9A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F94-4850-4E2B-BBD0-2C6DC768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BBB-FD4A-40F0-A6DE-B5115BD1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4E1-B9D8-4DD7-B6FA-53AE7621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2A3-25E3-46F2-99BB-ABC7F7D5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CE8-2A8D-40DE-B8C3-6D121926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531-C642-49AD-A58C-E0585746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084-A9DA-4FB2-B188-8B671B38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963-53D8-45C9-B68F-3246F6F1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6BF-4CD8-4255-8290-B727A95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EEB-4F79-43D6-8EAB-59E82215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539-9D39-4CD1-B034-EACFF551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788B-DA98-43B0-BD14-C266AC3DD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hyperlink" Target="http://www.youtube.com/watch?v=doqgPsmT7tc" TargetMode="External"/><Relationship Id="rId4" Type="http://schemas.openxmlformats.org/officeDocument/2006/relationships/hyperlink" Target="http://www.youtube.com/watch?v=doqgPsmT7tc" TargetMode="External"/><Relationship Id="rId5" Type="http://schemas.openxmlformats.org/officeDocument/2006/relationships/hyperlink" Target="http://www.youtube.com/watch?v=doqgPsmT7tc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gCxsdmsgsE" TargetMode="External"/><Relationship Id="rId3" Type="http://schemas.openxmlformats.org/officeDocument/2006/relationships/hyperlink" Target="http://www.youtube.com/watch?v=ggCxsdmsgsE" TargetMode="External"/><Relationship Id="rId4" Type="http://schemas.openxmlformats.org/officeDocument/2006/relationships/hyperlink" Target="http://www.youtube.com/watch?v=ggCxsdmsgsE" TargetMode="External"/><Relationship Id="rId5" Type="http://schemas.openxmlformats.org/officeDocument/2006/relationships/hyperlink" Target="http://www.youtube.com/watch?v=ggCxsdmsgs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3KcWYhS8JY&amp;feature=related" TargetMode="External"/><Relationship Id="rId2" Type="http://schemas.openxmlformats.org/officeDocument/2006/relationships/hyperlink" Target="http://www.youtube.com/watch?v=z3KcWYhS8JY&amp;feature=related" TargetMode="External"/><Relationship Id="rId3" Type="http://schemas.openxmlformats.org/officeDocument/2006/relationships/hyperlink" Target="http://www.youtube.com/watch?v=z3KcWYhS8JY&amp;feature=related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ivil War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1861-186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rmin1b.wav" descr=""/>
          <p:cNvPicPr/>
          <p:nvPr/>
        </p:nvPicPr>
        <p:blipFill>
          <a:blip r:embed="rId1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57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War Rif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field Rifle Musk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rifle in the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hit a target from 500 yards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field Rifle Mus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the second most used rifle in the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a standard weapon of 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ericans did like the Enfield, but soldiers preferred the Springfield because it offered interchangeabl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en"/>
          <p:cNvPicPr/>
          <p:nvPr/>
        </p:nvPicPr>
        <p:blipFill>
          <a:blip r:embed="rId1"/>
          <a:stretch/>
        </p:blipFill>
        <p:spPr>
          <a:xfrm>
            <a:off x="5410080" y="1981080"/>
            <a:ext cx="2706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number of other ri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rifle, Spencer rifle, Brunswick rifle, Burnside Carb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300px-Burnside_carbine"/>
          <p:cNvPicPr/>
          <p:nvPr/>
        </p:nvPicPr>
        <p:blipFill>
          <a:blip r:embed="rId1"/>
          <a:stretch/>
        </p:blipFill>
        <p:spPr>
          <a:xfrm>
            <a:off x="685800" y="4267080"/>
            <a:ext cx="7315200" cy="1803600"/>
          </a:xfrm>
          <a:prstGeom prst="rect">
            <a:avLst/>
          </a:prstGeom>
          <a:ln w="0">
            <a:noFill/>
          </a:ln>
        </p:spPr>
      </p:pic>
      <p:pic>
        <p:nvPicPr>
          <p:cNvPr id="85" name="m1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2670120" y="6248520"/>
            <a:ext cx="50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doqgPsmT7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9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tols and Revol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housands of different styles used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ly used one was the Colt R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the .44 caliber model 1860 and the .36 caliber Model 1851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guns were very light weight less than 3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lt4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ese were weapons such as bayonets, swords, knives, sabers, pikes, 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Were often used more to decorate their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Very few men were injured in the Civil War by these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2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95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35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5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 of 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895840" cy="218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767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uries from Weap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not much medicine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chest or head with one of these weapons, you were most likely left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leg or arm with one of these weapons, your leg or arm would most likely be ampu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here was no anesthesia or pain medi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cream.aiff" descr=""/>
          <p:cNvPicPr/>
          <p:nvPr/>
        </p:nvPicPr>
        <p:blipFill>
          <a:blip r:embed="rId1"/>
          <a:stretch/>
        </p:blipFill>
        <p:spPr>
          <a:xfrm>
            <a:off x="61722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828800" y="647712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gCxsdmsg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91320" y="2438280"/>
            <a:ext cx="219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99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Fought between the Union (North) and the Confederacy (Sout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war lasted from 1861-18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Over half of a million men are killed in the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Union wins the Civil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Leads to slavery being abolished and reconstruction in the sou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lipArt Placeholder 5" descr="civil.jpg"/>
          <p:cNvPicPr/>
          <p:nvPr/>
        </p:nvPicPr>
        <p:blipFill>
          <a:blip r:embed="rId1"/>
          <a:stretch/>
        </p:blipFill>
        <p:spPr>
          <a:xfrm>
            <a:off x="5334120" y="2133720"/>
            <a:ext cx="322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23 states that remained loyal to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11 states that seceded from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lipArt Placeholder 4" descr="flags.jpg"/>
          <p:cNvPicPr/>
          <p:nvPr/>
        </p:nvPicPr>
        <p:blipFill>
          <a:blip r:embed="rId1"/>
          <a:stretch/>
        </p:blipFill>
        <p:spPr>
          <a:xfrm>
            <a:off x="5638680" y="2362320"/>
            <a:ext cx="25225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ion Lead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braham Lincoln (President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lysses S. Grant (Lincoln best General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lipArt Placeholder 8" descr="G3LRCAHHYBZECAMJLPZKCAFZN8TCCADJUTE0CAKH8CFLCA0233E1CATCB117CA6DDFEYCAJ3FBAQCASJ3LV3CASLXX4QCASZB209CABMD4PZCAFS40UCCAHC7JO0CAQSLZDICAMKV6FACAUDXCB5CACUR7ND.jpg"/>
          <p:cNvPicPr/>
          <p:nvPr/>
        </p:nvPicPr>
        <p:blipFill>
          <a:blip r:embed="rId1"/>
          <a:stretch/>
        </p:blipFill>
        <p:spPr>
          <a:xfrm>
            <a:off x="5943600" y="1828800"/>
            <a:ext cx="1600200" cy="210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PO3CAN8WEWHCALL42HHCAR4PWWDCAOPBUG4CAQNY68SCAASWEAECA0S8V1ZCA438IEXCASSFA8CCA11R6J3CAVDQ45UCA46GQ93CAQAPZ2KCA7RM838CAV6RU5NCAU8YAQNCAVFS544CAARL5X8CAM3VYZ9.jpg"/>
          <p:cNvPicPr/>
          <p:nvPr/>
        </p:nvPicPr>
        <p:blipFill>
          <a:blip r:embed="rId2"/>
          <a:stretch/>
        </p:blipFill>
        <p:spPr>
          <a:xfrm>
            <a:off x="6019920" y="4267080"/>
            <a:ext cx="166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nfederation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Jefferson Davis (Presid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obert E. Lee (Gene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lipArt Placeholder 5" descr="232YCAEBW0NSCAO87LLDCAI0O79GCA3VL6WFCAJH8IAICA84O25SCABY8J4WCA9A1QRYCA5M1GJJCA66F9K7CA1EG2EOCAUKR973CAB4GSFPCAERJ3EYCARUGNWXCAM2LDAUCAMS8GKUCAG4U1UBCAQZ369Q.jpg"/>
          <p:cNvPicPr/>
          <p:nvPr/>
        </p:nvPicPr>
        <p:blipFill>
          <a:blip r:embed="rId1"/>
          <a:stretch/>
        </p:blipFill>
        <p:spPr>
          <a:xfrm>
            <a:off x="6172200" y="1905120"/>
            <a:ext cx="1600200" cy="204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LU3CAQTB8GDCAES56KMCAVIMSVGCAPQM6HMCA3ZI3D3CA91H2MBCALMROI3CA50YASQCAIWQHMJCA7CVAGTCAENEO95CAXTKEHWCA2NU5C9CAY5ZORDCAONTWQRCA5JBP6KCAPF6MJJCARCOBDLCANZSUVJ.jpg"/>
          <p:cNvPicPr/>
          <p:nvPr/>
        </p:nvPicPr>
        <p:blipFill>
          <a:blip r:embed="rId2"/>
          <a:stretch/>
        </p:blipFill>
        <p:spPr>
          <a:xfrm>
            <a:off x="6172200" y="4343400"/>
            <a:ext cx="16765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w its time to get it to the good stuf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Sj04310810000[1]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2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apons  Used in 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Artillery – Cann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Small arms – rifles, muskets, pistols, revolv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Edged Weapons – Swords, knives, bayonets, sab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wea"/>
          <p:cNvPicPr/>
          <p:nvPr/>
        </p:nvPicPr>
        <p:blipFill>
          <a:blip r:embed="rId1"/>
          <a:stretch/>
        </p:blipFill>
        <p:spPr>
          <a:xfrm>
            <a:off x="5257800" y="1828800"/>
            <a:ext cx="237492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0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apoleon 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 flipV="1">
            <a:off x="2590920" y="594072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z3KcWYhS8J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85800" y="2514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81480" y="259092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3:41:55Z</dcterms:created>
  <dc:creator>Henry Dugan</dc:creator>
  <dc:description/>
  <dc:language>en-US</dc:language>
  <cp:lastModifiedBy>Henry Dugan</cp:lastModifiedBy>
  <dcterms:modified xsi:type="dcterms:W3CDTF">2008-11-10T01:20:30Z</dcterms:modified>
  <cp:revision>35</cp:revision>
  <dc:subject/>
  <dc:title>Civil War 1861-1865 </dc:title>
</cp:coreProperties>
</file>