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F0C7-4358-4ED6-B6CA-08A14F68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702-37D0-4A5A-9BB5-44EE4B5C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AC49-816D-4EA7-A312-075DB91D2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FEFF-CD06-4238-AB01-E6923D7BB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9389-EBE4-4B94-A582-27EB5AE7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93B0-063F-4A59-A5B4-3133E572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56B-9D14-4551-906C-EC49F320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C5B0-3D5F-4B44-9BCF-0BFE69C9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9525-BE03-4096-878D-E1D5626E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FB09-9E51-427B-A80D-49AE7CDD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DCC-C722-4BE0-8A8D-351B1DC2D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A762-A393-49FB-BB70-7950E425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C1FC-72A1-40C0-AAC5-ADA875B9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2403-0912-4C68-BD23-1360CF86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6CF-79E7-424C-96EB-0591E6C2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A2D-D887-445E-9B71-66F74F2D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FBE-79E9-406E-93FF-A966B515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817-C71A-4786-A973-5AE1C719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F0E-D714-4014-9859-75D9D932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6DD-2951-4021-8079-932AFE00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E23-2000-4CF5-BD0B-E940C018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E7C-752E-46CB-B15D-D586ADCA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504-78FC-4137-84DB-751364D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C88-E6EC-416E-B583-95E00863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DCA-0849-4558-892C-9E38B74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3B0-F8E5-4C95-B409-515618C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769-0DF0-4269-AD93-7BC5195F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BAB-91C7-4F45-B48D-E405734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C0A-1B4E-4744-B7AF-E23C0C9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8FAB-24FC-453C-B0A1-038915C1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doqgPsmT7tc" TargetMode="External"/><Relationship Id="rId4" Type="http://schemas.openxmlformats.org/officeDocument/2006/relationships/hyperlink" Target="http://www.youtube.com/watch?v=doqgPsmT7tc" TargetMode="External"/><Relationship Id="rId5" Type="http://schemas.openxmlformats.org/officeDocument/2006/relationships/hyperlink" Target="http://www.youtube.com/watch?v=doqgPsmT7t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gCxsdmsgsE" TargetMode="External"/><Relationship Id="rId3" Type="http://schemas.openxmlformats.org/officeDocument/2006/relationships/hyperlink" Target="http://www.youtube.com/watch?v=ggCxsdmsgsE" TargetMode="External"/><Relationship Id="rId4" Type="http://schemas.openxmlformats.org/officeDocument/2006/relationships/hyperlink" Target="http://www.youtube.com/watch?v=ggCxsdmsgsE" TargetMode="External"/><Relationship Id="rId5" Type="http://schemas.openxmlformats.org/officeDocument/2006/relationships/hyperlink" Target="http://www.youtube.com/watch?v=ggCxsdmsgs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3KcWYhS8JY&amp;feature=related" TargetMode="External"/><Relationship Id="rId2" Type="http://schemas.openxmlformats.org/officeDocument/2006/relationships/hyperlink" Target="http://www.youtube.com/watch?v=z3KcWYhS8JY&amp;feature=related" TargetMode="External"/><Relationship Id="rId3" Type="http://schemas.openxmlformats.org/officeDocument/2006/relationships/hyperlink" Target="http://www.youtube.com/watch?v=z3KcWYhS8JY&amp;feature=relate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ivil War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861-186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rmin1b.wav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5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 Rif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field Rifle Mus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rifle in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hit a target from 500 yard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field Rifle Mu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the second most used rifle in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a standard weapon of 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ericans did like the Enfield, but soldiers preferred the Springfield because it offered interchangeabl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en"/>
          <p:cNvPicPr/>
          <p:nvPr/>
        </p:nvPicPr>
        <p:blipFill>
          <a:blip r:embed="rId1"/>
          <a:stretch/>
        </p:blipFill>
        <p:spPr>
          <a:xfrm>
            <a:off x="5410080" y="1981080"/>
            <a:ext cx="2706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number of other ri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rifle, Spencer rifle, Brunswick rifle, Burnside Carb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00px-Burnside_carbine"/>
          <p:cNvPicPr/>
          <p:nvPr/>
        </p:nvPicPr>
        <p:blipFill>
          <a:blip r:embed="rId1"/>
          <a:stretch/>
        </p:blipFill>
        <p:spPr>
          <a:xfrm>
            <a:off x="685800" y="4267080"/>
            <a:ext cx="7315200" cy="1803600"/>
          </a:xfrm>
          <a:prstGeom prst="rect">
            <a:avLst/>
          </a:prstGeom>
          <a:ln w="0">
            <a:noFill/>
          </a:ln>
        </p:spPr>
      </p:pic>
      <p:pic>
        <p:nvPicPr>
          <p:cNvPr id="85" name="m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670120" y="624852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doqgPsmT7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9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ols and Revol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ousands of different styles used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ly used one was the Colt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the .44 caliber model 1860 and the .36 caliber Model 1851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guns were very light weight less than 3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lt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se were weapons such as bayonets, swords, knives, sabers, pikes, 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Were often used more to decorate their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y few men were injured in the Civil War by these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2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35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95840" cy="218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767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uries from Weap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not much medicine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chest or head with one of these weapons, you were most likely left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leg or arm with one of these weapons, your leg or arm would most likely be amp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re was no anesthesia or pain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cream.aiff" descr=""/>
          <p:cNvPicPr/>
          <p:nvPr/>
        </p:nvPicPr>
        <p:blipFill>
          <a:blip r:embed="rId1"/>
          <a:stretch/>
        </p:blipFill>
        <p:spPr>
          <a:xfrm>
            <a:off x="61722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828800" y="647712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gCxsdmsg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91320" y="2438280"/>
            <a:ext cx="219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99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Fought between the Union (North) and the Confederacy (Sout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war lasted from 1861-18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Over half of a million men are killed in the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Union wins the Civil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Leads to slavery being abolished and reconstruction in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lipArt Placeholder 5" descr="civil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2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23 states that remained loyal to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11 states that seceded from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lipArt Placeholder 4" descr="flags.jpg"/>
          <p:cNvPicPr/>
          <p:nvPr/>
        </p:nvPicPr>
        <p:blipFill>
          <a:blip r:embed="rId1"/>
          <a:stretch/>
        </p:blipFill>
        <p:spPr>
          <a:xfrm>
            <a:off x="5638680" y="2362320"/>
            <a:ext cx="25225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ion Lea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braham Lincoln (Presiden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lysses S. Grant (Lincoln best General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lipArt Placeholder 8" descr="G3LRCAHHYBZECAMJLPZKCAFZN8TCCADJUTE0CAKH8CFLCA0233E1CATCB117CA6DDFEYCAJ3FBAQCASJ3LV3CASLXX4QCASZB209CABMD4PZCAFS40UCCAHC7JO0CAQSLZDICAMKV6FACAUDXCB5CACUR7ND.jpg"/>
          <p:cNvPicPr/>
          <p:nvPr/>
        </p:nvPicPr>
        <p:blipFill>
          <a:blip r:embed="rId1"/>
          <a:stretch/>
        </p:blipFill>
        <p:spPr>
          <a:xfrm>
            <a:off x="5943600" y="1828800"/>
            <a:ext cx="1600200" cy="21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PO3CAN8WEWHCALL42HHCAR4PWWDCAOPBUG4CAQNY68SCAASWEAECA0S8V1ZCA438IEXCASSFA8CCA11R6J3CAVDQ45UCA46GQ93CAQAPZ2KCA7RM838CAV6RU5NCAU8YAQNCAVFS544CAARL5X8CAM3VYZ9.jpg"/>
          <p:cNvPicPr/>
          <p:nvPr/>
        </p:nvPicPr>
        <p:blipFill>
          <a:blip r:embed="rId2"/>
          <a:stretch/>
        </p:blipFill>
        <p:spPr>
          <a:xfrm>
            <a:off x="6019920" y="4267080"/>
            <a:ext cx="166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federation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efferson Davis (Presid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obert E. Lee (Gene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lipArt Placeholder 5" descr="232YCAEBW0NSCAO87LLDCAI0O79GCA3VL6WFCAJH8IAICA84O25SCABY8J4WCA9A1QRYCA5M1GJJCA66F9K7CA1EG2EOCAUKR973CAB4GSFPCAERJ3EYCARUGNWXCAM2LDAUCAMS8GKUCAG4U1UBCAQZ369Q.jpg"/>
          <p:cNvPicPr/>
          <p:nvPr/>
        </p:nvPicPr>
        <p:blipFill>
          <a:blip r:embed="rId1"/>
          <a:stretch/>
        </p:blipFill>
        <p:spPr>
          <a:xfrm>
            <a:off x="6172200" y="1905120"/>
            <a:ext cx="160020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LU3CAQTB8GDCAES56KMCAVIMSVGCAPQM6HMCA3ZI3D3CA91H2MBCALMROI3CA50YASQCAIWQHMJCA7CVAGTCAENEO95CAXTKEHWCA2NU5C9CAY5ZORDCAONTWQRCA5JBP6KCAPF6MJJCARCOBDLCANZSUVJ.jpg"/>
          <p:cNvPicPr/>
          <p:nvPr/>
        </p:nvPicPr>
        <p:blipFill>
          <a:blip r:embed="rId2"/>
          <a:stretch/>
        </p:blipFill>
        <p:spPr>
          <a:xfrm>
            <a:off x="6172200" y="4343400"/>
            <a:ext cx="1676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w its time to get it to the good stuf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Sj04310810000[1]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apons  Used in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Artillery – Cann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Small arms – rifles, muskets, pistols, revolv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Edged Weapons – Swords, knives, bayonets, sa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wea"/>
          <p:cNvPicPr/>
          <p:nvPr/>
        </p:nvPicPr>
        <p:blipFill>
          <a:blip r:embed="rId1"/>
          <a:stretch/>
        </p:blipFill>
        <p:spPr>
          <a:xfrm>
            <a:off x="5257800" y="1828800"/>
            <a:ext cx="23749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0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apoleon 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 flipV="1">
            <a:off x="2590920" y="594072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z3KcWYhS8J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5800" y="2514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81480" y="25909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3:41:55Z</dcterms:created>
  <dc:creator>Henry Dugan</dc:creator>
  <dc:description/>
  <dc:language>en-US</dc:language>
  <cp:lastModifiedBy>Henry Dugan</cp:lastModifiedBy>
  <dcterms:modified xsi:type="dcterms:W3CDTF">2008-11-10T01:20:30Z</dcterms:modified>
  <cp:revision>35</cp:revision>
  <dc:subject/>
  <dc:title>Civil War 1861-1865 </dc:title>
</cp:coreProperties>
</file>