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65F9-9C88-4A93-86AC-5948BDDA3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E23A-E576-473F-964F-321813B5D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C522-5A1A-49E0-A001-545ECAFD4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22D4-17C2-4207-8D32-1778CD0F5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E220-3F33-4EC3-87DE-EDA92080C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8736-293E-4BA7-A7A8-57D75F91C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F4F7-E6C0-43DC-917F-2C27281FA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ED47-7FB4-4D68-B054-5AF4719DB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9419-9628-402D-95CB-5BE514765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D8B6-329D-4A09-9F1C-509737D6D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05EE-03A7-4900-949B-90602856A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3CB6-5304-4B8B-B207-704F19C0D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C0E3-A02D-424E-8518-BC73877C7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C252-B771-4A98-BCF6-7C03556C3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EA6F-2133-4CC9-B7AA-229F8AC7F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7DBB-4C06-4354-8347-1ACEEC27D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DBF8-601A-43E1-836E-A4AD25593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2B5-3BC2-44F4-8598-26B3464C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970-2EFB-4292-B6AD-A7466C49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A5B-58A5-4027-9295-274B3DAA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DDE-CD43-4945-B01C-4710D847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25C-6A52-400C-A46F-71257A22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124-4A38-4781-B272-480732F3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31C-AE73-4348-9CD9-845C350A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EC3-C66D-495E-BC34-36770C5D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9FE-9E5E-4C04-AC0A-E9DB981D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12A-97F0-40CD-A8D9-9144F88C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B1D-7CED-446F-BDEE-5CB8AE47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5E7-0882-4B7A-AC2F-AD896CA1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323D-2E67-4129-B220-ACF44FD5C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hyperlink" Target="http://www.youtube.com/watch?v=doqgPsmT7tc" TargetMode="External"/><Relationship Id="rId4" Type="http://schemas.openxmlformats.org/officeDocument/2006/relationships/hyperlink" Target="http://www.youtube.com/watch?v=doqgPsmT7tc" TargetMode="External"/><Relationship Id="rId5" Type="http://schemas.openxmlformats.org/officeDocument/2006/relationships/hyperlink" Target="http://www.youtube.com/watch?v=doqgPsmT7tc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ggCxsdmsgsE" TargetMode="External"/><Relationship Id="rId3" Type="http://schemas.openxmlformats.org/officeDocument/2006/relationships/hyperlink" Target="http://www.youtube.com/watch?v=ggCxsdmsgsE" TargetMode="External"/><Relationship Id="rId4" Type="http://schemas.openxmlformats.org/officeDocument/2006/relationships/hyperlink" Target="http://www.youtube.com/watch?v=ggCxsdmsgsE" TargetMode="External"/><Relationship Id="rId5" Type="http://schemas.openxmlformats.org/officeDocument/2006/relationships/hyperlink" Target="http://www.youtube.com/watch?v=ggCxsdmsgsE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3KcWYhS8JY&amp;feature=related" TargetMode="External"/><Relationship Id="rId2" Type="http://schemas.openxmlformats.org/officeDocument/2006/relationships/hyperlink" Target="http://www.youtube.com/watch?v=z3KcWYhS8JY&amp;feature=related" TargetMode="External"/><Relationship Id="rId3" Type="http://schemas.openxmlformats.org/officeDocument/2006/relationships/hyperlink" Target="http://www.youtube.com/watch?v=z3KcWYhS8JY&amp;feature=related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ivil War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1861-186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Sean Du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rmin1b.wav" descr=""/>
          <p:cNvPicPr/>
          <p:nvPr/>
        </p:nvPicPr>
        <p:blipFill>
          <a:blip r:embed="rId1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157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War Rif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ingfield Rifle Musk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used rifle in the Civi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hit a target from 500 yards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20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ifl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field Rifle Mus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was the second most used rifle in the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was a standard weapon of the 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ericans did like the Enfield, but soldiers preferred the Springfield because it offered interchangeabl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en"/>
          <p:cNvPicPr/>
          <p:nvPr/>
        </p:nvPicPr>
        <p:blipFill>
          <a:blip r:embed="rId1"/>
          <a:stretch/>
        </p:blipFill>
        <p:spPr>
          <a:xfrm>
            <a:off x="5410080" y="1981080"/>
            <a:ext cx="2706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fl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a number of other rif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rifle, Spencer rifle, Brunswick rifle, Burnside Carb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300px-Burnside_carbine"/>
          <p:cNvPicPr/>
          <p:nvPr/>
        </p:nvPicPr>
        <p:blipFill>
          <a:blip r:embed="rId1"/>
          <a:stretch/>
        </p:blipFill>
        <p:spPr>
          <a:xfrm>
            <a:off x="685800" y="4267080"/>
            <a:ext cx="7315200" cy="1803600"/>
          </a:xfrm>
          <a:prstGeom prst="rect">
            <a:avLst/>
          </a:prstGeom>
          <a:ln w="0">
            <a:noFill/>
          </a:ln>
        </p:spPr>
      </p:pic>
      <p:pic>
        <p:nvPicPr>
          <p:cNvPr id="85" name="m1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2670120" y="6248520"/>
            <a:ext cx="50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doqgPsmT7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9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stols and Revol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thousands of different styles used in th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ly used one was the Colt R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the .44 caliber model 1860 and the .36 caliber Model 1851 N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wo guns were very light weight less than 3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lt4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9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Edged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ese were weapons such as bayonets, swords, knives, sabers, pikes, l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Were often used more to decorate their ow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Very few men were injured in the Civil War by these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2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82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95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35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5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 of Edged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895840" cy="2187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287676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uries from Weap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not much medicine in th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hit in the chest or head with one of these weapons, you were most likely left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hit in the leg or arm with one of these weapons, your leg or arm would most likely be ampu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here was no anesthesia or pain medic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scream.aiff" descr=""/>
          <p:cNvPicPr/>
          <p:nvPr/>
        </p:nvPicPr>
        <p:blipFill>
          <a:blip r:embed="rId1"/>
          <a:stretch/>
        </p:blipFill>
        <p:spPr>
          <a:xfrm>
            <a:off x="61722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828800" y="6477120"/>
            <a:ext cx="51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gCxsdmsg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3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2514600" cy="2435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791320" y="2438280"/>
            <a:ext cx="2192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99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ivil War Background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Fought between the Union (North) and the Confederacy (South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The war lasted from 1861-18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Over half of a million men are killed in the w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The Union wins the Civil w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Leads to slavery being abolished and reconstruction in the sou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lipArt Placeholder 5" descr="civil.jpg"/>
          <p:cNvPicPr/>
          <p:nvPr/>
        </p:nvPicPr>
        <p:blipFill>
          <a:blip r:embed="rId1"/>
          <a:stretch/>
        </p:blipFill>
        <p:spPr>
          <a:xfrm>
            <a:off x="5334120" y="2133720"/>
            <a:ext cx="322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 War Backgrou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23 states that remained loyal to the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edera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11 states that seceded from the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lipArt Placeholder 4" descr="flags.jpg"/>
          <p:cNvPicPr/>
          <p:nvPr/>
        </p:nvPicPr>
        <p:blipFill>
          <a:blip r:embed="rId1"/>
          <a:stretch/>
        </p:blipFill>
        <p:spPr>
          <a:xfrm>
            <a:off x="5638680" y="2362320"/>
            <a:ext cx="25225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 War Background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ion Lead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braham Lincoln (President)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lysses S. Grant (Lincoln best General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lipArt Placeholder 8" descr="G3LRCAHHYBZECAMJLPZKCAFZN8TCCADJUTE0CAKH8CFLCA0233E1CATCB117CA6DDFEYCAJ3FBAQCASJ3LV3CASLXX4QCASZB209CABMD4PZCAFS40UCCAHC7JO0CAQSLZDICAMKV6FACAUDXCB5CACUR7ND.jpg"/>
          <p:cNvPicPr/>
          <p:nvPr/>
        </p:nvPicPr>
        <p:blipFill>
          <a:blip r:embed="rId1"/>
          <a:stretch/>
        </p:blipFill>
        <p:spPr>
          <a:xfrm>
            <a:off x="5943600" y="1828800"/>
            <a:ext cx="1600200" cy="210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1PO3CAN8WEWHCALL42HHCAR4PWWDCAOPBUG4CAQNY68SCAASWEAECA0S8V1ZCA438IEXCASSFA8CCA11R6J3CAVDQ45UCA46GQ93CAQAPZ2KCA7RM838CAV6RU5NCAU8YAQNCAVFS544CAARL5X8CAM3VYZ9.jpg"/>
          <p:cNvPicPr/>
          <p:nvPr/>
        </p:nvPicPr>
        <p:blipFill>
          <a:blip r:embed="rId2"/>
          <a:stretch/>
        </p:blipFill>
        <p:spPr>
          <a:xfrm>
            <a:off x="6019920" y="4267080"/>
            <a:ext cx="166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ivil War Background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onfederation L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Jefferson Davis (Presid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obert E. Lee (Gener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lipArt Placeholder 5" descr="232YCAEBW0NSCAO87LLDCAI0O79GCA3VL6WFCAJH8IAICA84O25SCABY8J4WCA9A1QRYCA5M1GJJCA66F9K7CA1EG2EOCAUKR973CAB4GSFPCAERJ3EYCARUGNWXCAM2LDAUCAMS8GKUCAG4U1UBCAQZ369Q.jpg"/>
          <p:cNvPicPr/>
          <p:nvPr/>
        </p:nvPicPr>
        <p:blipFill>
          <a:blip r:embed="rId1"/>
          <a:stretch/>
        </p:blipFill>
        <p:spPr>
          <a:xfrm>
            <a:off x="6172200" y="1905120"/>
            <a:ext cx="1600200" cy="204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GLU3CAQTB8GDCAES56KMCAVIMSVGCAPQM6HMCA3ZI3D3CA91H2MBCALMROI3CA50YASQCAIWQHMJCA7CVAGTCAENEO95CAXTKEHWCA2NU5C9CAY5ZORDCAONTWQRCA5JBP6KCAPF6MJJCARCOBDLCANZSUVJ.jpg"/>
          <p:cNvPicPr/>
          <p:nvPr/>
        </p:nvPicPr>
        <p:blipFill>
          <a:blip r:embed="rId2"/>
          <a:stretch/>
        </p:blipFill>
        <p:spPr>
          <a:xfrm>
            <a:off x="6172200" y="4343400"/>
            <a:ext cx="16765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w its time to get it to the good stuf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Sj04310810000[1]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12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apons  Used in the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Artillery – Cann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Small arms – rifles, muskets, pistols, revolv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Edged Weapons – Swords, knives, bayonets, sab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wea"/>
          <p:cNvPicPr/>
          <p:nvPr/>
        </p:nvPicPr>
        <p:blipFill>
          <a:blip r:embed="rId1"/>
          <a:stretch/>
        </p:blipFill>
        <p:spPr>
          <a:xfrm>
            <a:off x="5257800" y="1828800"/>
            <a:ext cx="237492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70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apoleon Cann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 flipV="1">
            <a:off x="2590920" y="594072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z3KcWYhS8J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85800" y="251460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181480" y="259092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03:41:55Z</dcterms:created>
  <dc:creator>Henry Dugan</dc:creator>
  <dc:description/>
  <dc:language>en-US</dc:language>
  <cp:lastModifiedBy>Henry Dugan</cp:lastModifiedBy>
  <dcterms:modified xsi:type="dcterms:W3CDTF">2008-11-10T01:20:30Z</dcterms:modified>
  <cp:revision>35</cp:revision>
  <dc:subject/>
  <dc:title>Civil War 1861-1865 </dc:title>
</cp:coreProperties>
</file>