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7B3A-269F-4CCD-8A77-B988BDE52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FDAE-971A-4401-A1B9-1ECFDC20E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B386-586B-4D66-8421-0BC5992D4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82D2-3BB9-4B2C-9082-F5E10C5B7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615D-DE56-4125-AA90-96748E97F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DD33-42B7-48D4-9C80-B01905A1A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17D9-4E11-4208-834F-87B393E4C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CF96-EDF5-476B-8E9F-7314BFC70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1EEE-731D-4E02-8787-85FE9B286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8F55-DB54-4D21-9025-4C315823B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84C1-D637-449C-AB94-B604CDD57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7366-A075-4FD3-8F1A-02F02DF0D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B0B5-C751-491A-8D2C-F60FFF506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318A-75CA-4476-BB95-070CAF0BA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5F08-48AC-473D-911F-1D2270054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3C98-B04A-4E2D-B647-F123073A6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353A-94C2-40C7-A997-26CDFD2D6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5CB-E367-4520-A396-66D81A02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8E0-B679-4070-82AA-CE9B924A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D62-8C36-4434-8C57-87394237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51A-75BD-4926-BA2B-9AA43046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C63-159C-45DA-9907-3B1F2D43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B1E-3A92-4E3B-8427-84408381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62B-0A62-4BCD-9654-B7DE645F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4EA-B082-4F97-9068-E615389C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057-E0E5-414F-AECD-D937B22E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2E5-983E-4A4C-8896-5220DE93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ED7F-9DAE-40FC-B41D-BF000665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4EC-3FDC-4C08-AE38-FF95945F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26D5-43DE-4782-BF11-717D27469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hyperlink" Target="http://www.youtube.com/watch?v=doqgPsmT7tc" TargetMode="External"/><Relationship Id="rId4" Type="http://schemas.openxmlformats.org/officeDocument/2006/relationships/hyperlink" Target="http://www.youtube.com/watch?v=doqgPsmT7tc" TargetMode="External"/><Relationship Id="rId5" Type="http://schemas.openxmlformats.org/officeDocument/2006/relationships/hyperlink" Target="http://www.youtube.com/watch?v=doqgPsmT7tc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ggCxsdmsgsE" TargetMode="External"/><Relationship Id="rId3" Type="http://schemas.openxmlformats.org/officeDocument/2006/relationships/hyperlink" Target="http://www.youtube.com/watch?v=ggCxsdmsgsE" TargetMode="External"/><Relationship Id="rId4" Type="http://schemas.openxmlformats.org/officeDocument/2006/relationships/hyperlink" Target="http://www.youtube.com/watch?v=ggCxsdmsgsE" TargetMode="External"/><Relationship Id="rId5" Type="http://schemas.openxmlformats.org/officeDocument/2006/relationships/hyperlink" Target="http://www.youtube.com/watch?v=ggCxsdmsgsE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3KcWYhS8JY&amp;feature=related" TargetMode="External"/><Relationship Id="rId2" Type="http://schemas.openxmlformats.org/officeDocument/2006/relationships/hyperlink" Target="http://www.youtube.com/watch?v=z3KcWYhS8JY&amp;feature=related" TargetMode="External"/><Relationship Id="rId3" Type="http://schemas.openxmlformats.org/officeDocument/2006/relationships/hyperlink" Target="http://www.youtube.com/watch?v=z3KcWYhS8JY&amp;feature=related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ivil War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1861-186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Sean Du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rmin1b.wav" descr=""/>
          <p:cNvPicPr/>
          <p:nvPr/>
        </p:nvPicPr>
        <p:blipFill>
          <a:blip r:embed="rId1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157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War Rif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ingfield Rifle Musk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used rifle in the Civi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hit a target from 500 yards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20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ifl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field Rifle Mus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was the second most used rifle in the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was a standard weapon of the 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ericans did like the Enfield, but soldiers preferred the Springfield because it offered interchangeabl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en"/>
          <p:cNvPicPr/>
          <p:nvPr/>
        </p:nvPicPr>
        <p:blipFill>
          <a:blip r:embed="rId1"/>
          <a:stretch/>
        </p:blipFill>
        <p:spPr>
          <a:xfrm>
            <a:off x="5410080" y="1981080"/>
            <a:ext cx="2706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fl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a number of other rif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rifle, Spencer rifle, Brunswick rifle, Burnside Carb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300px-Burnside_carbine"/>
          <p:cNvPicPr/>
          <p:nvPr/>
        </p:nvPicPr>
        <p:blipFill>
          <a:blip r:embed="rId1"/>
          <a:stretch/>
        </p:blipFill>
        <p:spPr>
          <a:xfrm>
            <a:off x="685800" y="4267080"/>
            <a:ext cx="7315200" cy="1803600"/>
          </a:xfrm>
          <a:prstGeom prst="rect">
            <a:avLst/>
          </a:prstGeom>
          <a:ln w="0">
            <a:noFill/>
          </a:ln>
        </p:spPr>
      </p:pic>
      <p:pic>
        <p:nvPicPr>
          <p:cNvPr id="85" name="m1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2670120" y="6248520"/>
            <a:ext cx="50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doqgPsmT7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9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stols and Revol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thousands of different styles used in th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ly used one was the Colt R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the .44 caliber model 1860 and the .36 caliber Model 1851 N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wo guns were very light weight less than 3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lt4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9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Edged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ese were weapons such as bayonets, swords, knives, sabers, pikes, l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Were often used more to decorate their ow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Very few men were injured in the Civil War by these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2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82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95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35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5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 of Edged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895840" cy="2187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287676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uries from Weap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not much medicine in th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hit in the chest or head with one of these weapons, you were most likely left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hit in the leg or arm with one of these weapons, your leg or arm would most likely be ampu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here was no anesthesia or pain medic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scream.aiff" descr=""/>
          <p:cNvPicPr/>
          <p:nvPr/>
        </p:nvPicPr>
        <p:blipFill>
          <a:blip r:embed="rId1"/>
          <a:stretch/>
        </p:blipFill>
        <p:spPr>
          <a:xfrm>
            <a:off x="61722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828800" y="6477120"/>
            <a:ext cx="51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gCxsdmsg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3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2514600" cy="2435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791320" y="2438280"/>
            <a:ext cx="2192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99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ivil War Background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Fought between the Union (North) and the Confederacy (South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The war lasted from 1861-18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Over half of a million men are killed in the w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The Union wins the Civil w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Leads to slavery being abolished and reconstruction in the sou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lipArt Placeholder 5" descr="civil.jpg"/>
          <p:cNvPicPr/>
          <p:nvPr/>
        </p:nvPicPr>
        <p:blipFill>
          <a:blip r:embed="rId1"/>
          <a:stretch/>
        </p:blipFill>
        <p:spPr>
          <a:xfrm>
            <a:off x="5334120" y="2133720"/>
            <a:ext cx="322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 War Backgrou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23 states that remained loyal to the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edera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11 states that seceded from the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lipArt Placeholder 4" descr="flags.jpg"/>
          <p:cNvPicPr/>
          <p:nvPr/>
        </p:nvPicPr>
        <p:blipFill>
          <a:blip r:embed="rId1"/>
          <a:stretch/>
        </p:blipFill>
        <p:spPr>
          <a:xfrm>
            <a:off x="5638680" y="2362320"/>
            <a:ext cx="25225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 War Background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ion Lead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braham Lincoln (President)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lysses S. Grant (Lincoln best General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lipArt Placeholder 8" descr="G3LRCAHHYBZECAMJLPZKCAFZN8TCCADJUTE0CAKH8CFLCA0233E1CATCB117CA6DDFEYCAJ3FBAQCASJ3LV3CASLXX4QCASZB209CABMD4PZCAFS40UCCAHC7JO0CAQSLZDICAMKV6FACAUDXCB5CACUR7ND.jpg"/>
          <p:cNvPicPr/>
          <p:nvPr/>
        </p:nvPicPr>
        <p:blipFill>
          <a:blip r:embed="rId1"/>
          <a:stretch/>
        </p:blipFill>
        <p:spPr>
          <a:xfrm>
            <a:off x="5943600" y="1828800"/>
            <a:ext cx="1600200" cy="210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1PO3CAN8WEWHCALL42HHCAR4PWWDCAOPBUG4CAQNY68SCAASWEAECA0S8V1ZCA438IEXCASSFA8CCA11R6J3CAVDQ45UCA46GQ93CAQAPZ2KCA7RM838CAV6RU5NCAU8YAQNCAVFS544CAARL5X8CAM3VYZ9.jpg"/>
          <p:cNvPicPr/>
          <p:nvPr/>
        </p:nvPicPr>
        <p:blipFill>
          <a:blip r:embed="rId2"/>
          <a:stretch/>
        </p:blipFill>
        <p:spPr>
          <a:xfrm>
            <a:off x="6019920" y="4267080"/>
            <a:ext cx="166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ivil War Background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onfederation L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Jefferson Davis (Presid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obert E. Lee (Gener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lipArt Placeholder 5" descr="232YCAEBW0NSCAO87LLDCAI0O79GCA3VL6WFCAJH8IAICA84O25SCABY8J4WCA9A1QRYCA5M1GJJCA66F9K7CA1EG2EOCAUKR973CAB4GSFPCAERJ3EYCARUGNWXCAM2LDAUCAMS8GKUCAG4U1UBCAQZ369Q.jpg"/>
          <p:cNvPicPr/>
          <p:nvPr/>
        </p:nvPicPr>
        <p:blipFill>
          <a:blip r:embed="rId1"/>
          <a:stretch/>
        </p:blipFill>
        <p:spPr>
          <a:xfrm>
            <a:off x="6172200" y="1905120"/>
            <a:ext cx="1600200" cy="204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GLU3CAQTB8GDCAES56KMCAVIMSVGCAPQM6HMCA3ZI3D3CA91H2MBCALMROI3CA50YASQCAIWQHMJCA7CVAGTCAENEO95CAXTKEHWCA2NU5C9CAY5ZORDCAONTWQRCA5JBP6KCAPF6MJJCARCOBDLCANZSUVJ.jpg"/>
          <p:cNvPicPr/>
          <p:nvPr/>
        </p:nvPicPr>
        <p:blipFill>
          <a:blip r:embed="rId2"/>
          <a:stretch/>
        </p:blipFill>
        <p:spPr>
          <a:xfrm>
            <a:off x="6172200" y="4343400"/>
            <a:ext cx="16765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w its time to get it to the good stuf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Sj04310810000[1]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12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apons  Used in the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Artillery – Cann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Small arms – rifles, muskets, pistols, revolv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Edged Weapons – Swords, knives, bayonets, sab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wea"/>
          <p:cNvPicPr/>
          <p:nvPr/>
        </p:nvPicPr>
        <p:blipFill>
          <a:blip r:embed="rId1"/>
          <a:stretch/>
        </p:blipFill>
        <p:spPr>
          <a:xfrm>
            <a:off x="5257800" y="1828800"/>
            <a:ext cx="237492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70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apoleon Cann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 flipV="1">
            <a:off x="2590920" y="594072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z3KcWYhS8J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85800" y="251460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181480" y="259092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03:41:55Z</dcterms:created>
  <dc:creator>Henry Dugan</dc:creator>
  <dc:description/>
  <dc:language>en-US</dc:language>
  <cp:lastModifiedBy>Henry Dugan</cp:lastModifiedBy>
  <dcterms:modified xsi:type="dcterms:W3CDTF">2008-11-10T01:20:30Z</dcterms:modified>
  <cp:revision>35</cp:revision>
  <dc:subject/>
  <dc:title>Civil War 1861-1865 </dc:title>
</cp:coreProperties>
</file>