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AEF-9BC7-43CC-A396-D51B6773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9AB-CD9E-4177-8295-4E2EA8D3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D64-838E-429F-8702-5A3E6184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75B-CCA9-4BAE-AC38-E13BCEC6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0F5-A61B-40FA-ADEF-5787AB1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F1D-47B4-479D-8CAB-3A0AA41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94F-769D-4A47-B26F-D8190369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DE2-DDEA-4B6F-BEF7-CB773088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1D7-DB13-43B9-8582-38D82EF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F72-D992-4C9F-B288-773BBF7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136-7A0F-42C9-B312-B2CFE80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A6E-373A-461F-A0B3-419DB25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523B-4CEA-4509-81F5-7627E7CE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34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26.xml"/><Relationship Id="rId8" Type="http://schemas.openxmlformats.org/officeDocument/2006/relationships/slide" Target="slide36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28.xml"/><Relationship Id="rId12" Type="http://schemas.openxmlformats.org/officeDocument/2006/relationships/slide" Target="slide38.xml"/><Relationship Id="rId13" Type="http://schemas.openxmlformats.org/officeDocument/2006/relationships/slide" Target="slide10.xml"/><Relationship Id="rId14" Type="http://schemas.openxmlformats.org/officeDocument/2006/relationships/slide" Target="slide20.xml"/><Relationship Id="rId15" Type="http://schemas.openxmlformats.org/officeDocument/2006/relationships/slide" Target="slide30.xml"/><Relationship Id="rId16" Type="http://schemas.openxmlformats.org/officeDocument/2006/relationships/slide" Target="slide12.xml"/><Relationship Id="rId17" Type="http://schemas.openxmlformats.org/officeDocument/2006/relationships/slide" Target="slide32.xml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52280"/>
          <a:ext cx="8991720" cy="6729480"/>
        </p:xfrm>
        <a:graphic>
          <a:graphicData uri="http://schemas.openxmlformats.org/drawingml/2006/table">
            <a:tbl>
              <a:tblPr/>
              <a:tblGrid>
                <a:gridCol w="1798920"/>
                <a:gridCol w="1798560"/>
                <a:gridCol w="1797120"/>
                <a:gridCol w="1798560"/>
                <a:gridCol w="17985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ulary &amp;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 decided that African-American men who paid taxes could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Jefferson proposed an antislavery proposal to Congress, it fai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njamin Franklin became the president of this state’s antislavery societ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was the last northern state to initiate gradual abolition in 18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Jer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state made children of enslaved women free at birth if they were born after March 1,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hode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west Ordinance is passed in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777 this state’s constitutional convention prohibit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er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consisted of Maryland, Virginia, District of Columbia, Kentucky, Missouri, North Carolina, and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 were the first region abolish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820 83.9% of African-Americans were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region was more reluctant to abolish slavery than New England because it has some economic investment in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Mid-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 aimed for gradual compensated emancipation in this reg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Upper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 and _________ area favored emancipation after the War for Indepen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esape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 advocate of the abolition of slavery.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bolition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gal freeing of a sla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anu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Pennsylvania Society for Promoting the Abolition of Slavery in 1787 was one of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were District of Columbia, Kentucky, Maryland, North Carolina, Virginia, and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ere the Congress drew its authority in the 17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brought a lot of white laborers from Europe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tlantic Immi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as the president of the Pennsylvania Society for Promoting the Abolition of Slave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proposed a antislavery plan for the Northwest Territory in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organized the first antislavery society in 17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ony Ben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two free black brothers protested that they were being taxed without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and John Cu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ssachusetts slave was living as a free person when his master sought a court order to force him back to slavery in 17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k Wal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Pennsylvania voted that children of enslaved mothers would become free at age twenty-eig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’s supreme court abolishe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11:04Z</dcterms:created>
  <dc:creator>Henry Dugan</dc:creator>
  <dc:description/>
  <dc:language>en-US</dc:language>
  <cp:lastModifiedBy>Henry Dugan</cp:lastModifiedBy>
  <dcterms:modified xsi:type="dcterms:W3CDTF">2008-11-07T03:36:35Z</dcterms:modified>
  <cp:revision>26</cp:revision>
  <dc:subject/>
  <dc:title>Slide 1</dc:title>
</cp:coreProperties>
</file>