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8F9-522A-4409-AA73-EB41F9AA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B07B-E740-4AAC-9D57-038C3AEE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A309-8025-42F2-8B77-46C395C0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01B6-8C03-4E4E-9A6C-06681DAA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FDDE-99C8-4242-B4D1-0A5A6E1B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1B87-08F9-4C56-B9C3-0F800D5C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FD7B-E1C8-466F-899C-EB080A65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6C11-9B75-4F54-BF2E-1829BD18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1D52-20A7-435C-9D3E-CEC8D145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5204-1C65-4D3A-930B-FD7BB758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5251-29B1-42BB-A187-DC4D84C9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12ED-6074-4B46-979D-E08AFB43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E5C8-618A-48FB-B36E-C605BABB2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" Target="slide24.xml"/><Relationship Id="rId4" Type="http://schemas.openxmlformats.org/officeDocument/2006/relationships/slide" Target="slide34.xml"/><Relationship Id="rId5" Type="http://schemas.openxmlformats.org/officeDocument/2006/relationships/slide" Target="slide6.xml"/><Relationship Id="rId6" Type="http://schemas.openxmlformats.org/officeDocument/2006/relationships/slide" Target="slide18.xml"/><Relationship Id="rId7" Type="http://schemas.openxmlformats.org/officeDocument/2006/relationships/slide" Target="slide26.xml"/><Relationship Id="rId8" Type="http://schemas.openxmlformats.org/officeDocument/2006/relationships/slide" Target="slide36.xml"/><Relationship Id="rId9" Type="http://schemas.openxmlformats.org/officeDocument/2006/relationships/slide" Target="slide8.xml"/><Relationship Id="rId10" Type="http://schemas.openxmlformats.org/officeDocument/2006/relationships/slide" Target="slide16.xml"/><Relationship Id="rId11" Type="http://schemas.openxmlformats.org/officeDocument/2006/relationships/slide" Target="slide28.xml"/><Relationship Id="rId12" Type="http://schemas.openxmlformats.org/officeDocument/2006/relationships/slide" Target="slide38.xml"/><Relationship Id="rId13" Type="http://schemas.openxmlformats.org/officeDocument/2006/relationships/slide" Target="slide10.xml"/><Relationship Id="rId14" Type="http://schemas.openxmlformats.org/officeDocument/2006/relationships/slide" Target="slide20.xml"/><Relationship Id="rId15" Type="http://schemas.openxmlformats.org/officeDocument/2006/relationships/slide" Target="slide30.xml"/><Relationship Id="rId16" Type="http://schemas.openxmlformats.org/officeDocument/2006/relationships/slide" Target="slide12.xml"/><Relationship Id="rId17" Type="http://schemas.openxmlformats.org/officeDocument/2006/relationships/slide" Target="slide32.xml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280" y="152280"/>
          <a:ext cx="8991720" cy="6729480"/>
        </p:xfrm>
        <a:graphic>
          <a:graphicData uri="http://schemas.openxmlformats.org/drawingml/2006/table">
            <a:tbl>
              <a:tblPr/>
              <a:tblGrid>
                <a:gridCol w="1798920"/>
                <a:gridCol w="1798560"/>
                <a:gridCol w="1797120"/>
                <a:gridCol w="1798560"/>
                <a:gridCol w="179856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s &amp; 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s &amp; 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ons &amp; 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cabulary &amp; te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 &amp; 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n this year Massachusetts decided that African-American men who paid taxes could v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78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n this year Jefferson proposed an antislavery proposal to Congress, it fail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78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enjamin Franklin became the president of this state’s antislavery societ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ennsylvan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is was the last northern state to initiate gradual abolition in 18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ew Jers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is state made children of enslaved women free at birth if they were born after March 1, 17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Rhode Is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e Northwest Ordinance is passed in this 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n 1777 this state’s constitutional convention prohibits sla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Verm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Upper South States consisted of Maryland, Virginia, District of Columbia, Kentucky, Missouri, North Carolina, and 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a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 were the first region abolish sla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ew En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n 1820 83.9% of African-Americans were f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e No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is region was more reluctant to abolish slavery than New England because it has some economic investment in sla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e Mid-Atlan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ily Dou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ntislavery societies aimed for gradual compensated emancipation in this reg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Upper S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e North and _________ area favored emancipation after the War for Independen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hesape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n advocate of the abolition of slavery._x000b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bolitioni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egal freeing of a sla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anu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e Pennsylvania Society for Promoting the Abolition of Slavery in 1787 was one of the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ntislavery Socie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Upper South States were District of Columbia, Kentucky, Maryland, North Carolina, Virginia, and 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where the Congress drew its authority in the 178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cles of Confed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brought a lot of white laborers from Europe to Ame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atlantic Immig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was the president of the Pennsylvania Society for Promoting the Abolition of Slave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jamin Frank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proposed a antislavery plan for the Northwest Territory in 17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omas Jeffe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organized the first antislavery society in 17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hony Benez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78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two free black brothers protested that they were being taxed without re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ul and John Cuf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Massachusetts slave was living as a free person when his master sought a court order to force him back to slavery in 178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ok Wal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n this year Pennsylvania voted that children of enslaved mothers would become free at age twenty-eigh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7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n this year Massachusetts’s supreme court abolishes sla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78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23:11:04Z</dcterms:created>
  <dc:creator>Henry Dugan</dc:creator>
  <dc:description/>
  <dc:language>en-US</dc:language>
  <cp:lastModifiedBy>Henry Dugan</cp:lastModifiedBy>
  <dcterms:modified xsi:type="dcterms:W3CDTF">2008-11-07T03:36:35Z</dcterms:modified>
  <cp:revision>26</cp:revision>
  <dc:subject/>
  <dc:title>Slide 1</dc:title>
</cp:coreProperties>
</file>